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5D747-B1EE-4F6F-A2EE-AE17E21A307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A61AF-44E1-43F9-8F03-E00BF8C4D8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0" name="PlaceHolder 1"/>
          <p:cNvSpPr>
            <a:spLocks noGrp="1"/>
          </p:cNvSpPr>
          <p:nvPr>
            <p:ph type="sldImg"/>
          </p:nvPr>
        </p:nvSpPr>
        <p:spPr>
          <a:xfrm>
            <a:off x="985680" y="733320"/>
            <a:ext cx="4886640" cy="3665520"/>
          </a:xfrm>
          <a:prstGeom prst="rect">
            <a:avLst/>
          </a:prstGeom>
          <a:ln w="0">
            <a:noFill/>
          </a:ln>
        </p:spPr>
      </p:sp>
      <p:sp>
        <p:nvSpPr>
          <p:cNvPr id="702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03608-AE17-46AC-B4E8-BF083046EB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4C15E-8A74-4D76-A146-638BEC86E9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6" name="PlaceHolder 1"/>
          <p:cNvSpPr>
            <a:spLocks noGrp="1"/>
          </p:cNvSpPr>
          <p:nvPr>
            <p:ph type="sldImg"/>
          </p:nvPr>
        </p:nvSpPr>
        <p:spPr>
          <a:xfrm>
            <a:off x="985680" y="741240"/>
            <a:ext cx="4886640" cy="3665520"/>
          </a:xfrm>
          <a:prstGeom prst="rect">
            <a:avLst/>
          </a:prstGeom>
          <a:ln w="0">
            <a:noFill/>
          </a:ln>
        </p:spPr>
      </p:sp>
      <p:sp>
        <p:nvSpPr>
          <p:cNvPr id="70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85E84-C53E-4D2D-A54E-1977E303B1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0C2DC-AC61-4A9E-BE00-C7A5FDC575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0" name="PlaceHolder 1"/>
          <p:cNvSpPr>
            <a:spLocks noGrp="1"/>
          </p:cNvSpPr>
          <p:nvPr>
            <p:ph type="sldImg"/>
          </p:nvPr>
        </p:nvSpPr>
        <p:spPr>
          <a:xfrm>
            <a:off x="985680" y="741240"/>
            <a:ext cx="4886640" cy="3665520"/>
          </a:xfrm>
          <a:prstGeom prst="rect">
            <a:avLst/>
          </a:prstGeom>
          <a:ln w="0">
            <a:noFill/>
          </a:ln>
        </p:spPr>
      </p:sp>
      <p:sp>
        <p:nvSpPr>
          <p:cNvPr id="7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D812F-95FE-45BD-91FB-A5B2C7907B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3D8B3-39CF-4C88-AD0D-DACFA05D5EB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4" name="PlaceHolder 1"/>
          <p:cNvSpPr>
            <a:spLocks noGrp="1"/>
          </p:cNvSpPr>
          <p:nvPr>
            <p:ph type="sldImg"/>
          </p:nvPr>
        </p:nvSpPr>
        <p:spPr>
          <a:xfrm>
            <a:off x="985680" y="741240"/>
            <a:ext cx="4886640" cy="3665520"/>
          </a:xfrm>
          <a:prstGeom prst="rect">
            <a:avLst/>
          </a:prstGeom>
          <a:ln w="0">
            <a:noFill/>
          </a:ln>
        </p:spPr>
      </p:sp>
      <p:sp>
        <p:nvSpPr>
          <p:cNvPr id="7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5D87E-C91E-4D6A-BAB1-2957202D48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E224E-8179-412F-B6B8-126C5E732D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68" name="PlaceHolder 1"/>
          <p:cNvSpPr>
            <a:spLocks noGrp="1"/>
          </p:cNvSpPr>
          <p:nvPr>
            <p:ph type="sldImg"/>
          </p:nvPr>
        </p:nvSpPr>
        <p:spPr>
          <a:xfrm>
            <a:off x="985680" y="741240"/>
            <a:ext cx="4886640" cy="3665520"/>
          </a:xfrm>
          <a:prstGeom prst="rect">
            <a:avLst/>
          </a:prstGeom>
          <a:ln w="0">
            <a:noFill/>
          </a:ln>
        </p:spPr>
      </p:sp>
      <p:sp>
        <p:nvSpPr>
          <p:cNvPr id="70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41C39-C25E-49BC-84CF-2EC2294D44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ED742-9D9A-4DF7-9FE1-EB0B6D55D4F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2" name="PlaceHolder 1"/>
          <p:cNvSpPr>
            <a:spLocks noGrp="1"/>
          </p:cNvSpPr>
          <p:nvPr>
            <p:ph type="sldImg"/>
          </p:nvPr>
        </p:nvSpPr>
        <p:spPr>
          <a:xfrm>
            <a:off x="985680" y="741240"/>
            <a:ext cx="4886640" cy="3665520"/>
          </a:xfrm>
          <a:prstGeom prst="rect">
            <a:avLst/>
          </a:prstGeom>
          <a:ln w="0">
            <a:noFill/>
          </a:ln>
        </p:spPr>
      </p:sp>
      <p:sp>
        <p:nvSpPr>
          <p:cNvPr id="7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D16ED-AA02-40ED-A0E7-71801198483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BF0D0-65F7-4386-AE06-426FD08F86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6" name="PlaceHolder 1"/>
          <p:cNvSpPr>
            <a:spLocks noGrp="1"/>
          </p:cNvSpPr>
          <p:nvPr>
            <p:ph type="sldImg"/>
          </p:nvPr>
        </p:nvSpPr>
        <p:spPr>
          <a:xfrm>
            <a:off x="985680" y="741240"/>
            <a:ext cx="4886640" cy="3665520"/>
          </a:xfrm>
          <a:prstGeom prst="rect">
            <a:avLst/>
          </a:prstGeom>
          <a:ln w="0">
            <a:noFill/>
          </a:ln>
        </p:spPr>
      </p:sp>
      <p:sp>
        <p:nvSpPr>
          <p:cNvPr id="7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32B70-FEBD-4557-8624-599AEBCD62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F1C4B-E2AA-4AAF-8F6B-05438E58EE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0" name="PlaceHolder 1"/>
          <p:cNvSpPr>
            <a:spLocks noGrp="1"/>
          </p:cNvSpPr>
          <p:nvPr>
            <p:ph type="sldImg"/>
          </p:nvPr>
        </p:nvSpPr>
        <p:spPr>
          <a:xfrm>
            <a:off x="985680" y="741240"/>
            <a:ext cx="4886640" cy="3665520"/>
          </a:xfrm>
          <a:prstGeom prst="rect">
            <a:avLst/>
          </a:prstGeom>
          <a:ln w="0">
            <a:noFill/>
          </a:ln>
        </p:spPr>
      </p:sp>
      <p:sp>
        <p:nvSpPr>
          <p:cNvPr id="70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0E5F9-69C3-43A6-A5CC-103A17154F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7153B-FE0D-4279-9FC7-574B862FC1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4" name="PlaceHolder 1"/>
          <p:cNvSpPr>
            <a:spLocks noGrp="1"/>
          </p:cNvSpPr>
          <p:nvPr>
            <p:ph type="sldImg"/>
          </p:nvPr>
        </p:nvSpPr>
        <p:spPr>
          <a:xfrm>
            <a:off x="985680" y="741240"/>
            <a:ext cx="4886640" cy="3665520"/>
          </a:xfrm>
          <a:prstGeom prst="rect">
            <a:avLst/>
          </a:prstGeom>
          <a:ln w="0">
            <a:noFill/>
          </a:ln>
        </p:spPr>
      </p:sp>
      <p:sp>
        <p:nvSpPr>
          <p:cNvPr id="7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25EB3-BB9E-44FC-869B-AEB8505A09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2E95E-0709-4C73-8A5E-69168182438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88" name="PlaceHolder 1"/>
          <p:cNvSpPr>
            <a:spLocks noGrp="1"/>
          </p:cNvSpPr>
          <p:nvPr>
            <p:ph type="sldImg"/>
          </p:nvPr>
        </p:nvSpPr>
        <p:spPr>
          <a:xfrm>
            <a:off x="985680" y="741240"/>
            <a:ext cx="4886640" cy="3665520"/>
          </a:xfrm>
          <a:prstGeom prst="rect">
            <a:avLst/>
          </a:prstGeom>
          <a:ln w="0">
            <a:noFill/>
          </a:ln>
        </p:spPr>
      </p:sp>
      <p:sp>
        <p:nvSpPr>
          <p:cNvPr id="7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32270-95F5-4F2B-92F4-B3A9E4EEC20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245FD-3E74-4C72-9571-A86963D407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2" name="PlaceHolder 1"/>
          <p:cNvSpPr>
            <a:spLocks noGrp="1"/>
          </p:cNvSpPr>
          <p:nvPr>
            <p:ph type="sldImg"/>
          </p:nvPr>
        </p:nvSpPr>
        <p:spPr>
          <a:xfrm>
            <a:off x="985680" y="741240"/>
            <a:ext cx="4886640" cy="3665520"/>
          </a:xfrm>
          <a:prstGeom prst="rect">
            <a:avLst/>
          </a:prstGeom>
          <a:ln w="0">
            <a:noFill/>
          </a:ln>
        </p:spPr>
      </p:sp>
      <p:sp>
        <p:nvSpPr>
          <p:cNvPr id="70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741CC-4BC2-416B-BEF2-1E438D7303C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EAF5A-5AAD-4A6C-B68E-181740B56B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4" name="PlaceHolder 1"/>
          <p:cNvSpPr>
            <a:spLocks noGrp="1"/>
          </p:cNvSpPr>
          <p:nvPr>
            <p:ph type="sldImg"/>
          </p:nvPr>
        </p:nvSpPr>
        <p:spPr>
          <a:xfrm>
            <a:off x="985680" y="741240"/>
            <a:ext cx="4886640" cy="3665520"/>
          </a:xfrm>
          <a:prstGeom prst="rect">
            <a:avLst/>
          </a:prstGeom>
          <a:ln w="0">
            <a:noFill/>
          </a:ln>
        </p:spPr>
      </p:sp>
      <p:sp>
        <p:nvSpPr>
          <p:cNvPr id="7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FDAFA-4F54-47D6-B3D9-576E3CF0B1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51EC5-F6B0-4FD8-A44E-FFFD0CDBDD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96" name="PlaceHolder 1"/>
          <p:cNvSpPr>
            <a:spLocks noGrp="1"/>
          </p:cNvSpPr>
          <p:nvPr>
            <p:ph type="sldImg"/>
          </p:nvPr>
        </p:nvSpPr>
        <p:spPr>
          <a:xfrm>
            <a:off x="985680" y="741240"/>
            <a:ext cx="4886640" cy="3665520"/>
          </a:xfrm>
          <a:prstGeom prst="rect">
            <a:avLst/>
          </a:prstGeom>
          <a:ln w="0">
            <a:noFill/>
          </a:ln>
        </p:spPr>
      </p:sp>
      <p:sp>
        <p:nvSpPr>
          <p:cNvPr id="7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CD836-9E78-4C17-8E2E-409C53F5B2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82AA5-5B52-42A9-B35A-7DA559F400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0" name="PlaceHolder 1"/>
          <p:cNvSpPr>
            <a:spLocks noGrp="1"/>
          </p:cNvSpPr>
          <p:nvPr>
            <p:ph type="sldImg"/>
          </p:nvPr>
        </p:nvSpPr>
        <p:spPr>
          <a:xfrm>
            <a:off x="985680" y="741240"/>
            <a:ext cx="4886640" cy="3665520"/>
          </a:xfrm>
          <a:prstGeom prst="rect">
            <a:avLst/>
          </a:prstGeom>
          <a:ln w="0">
            <a:noFill/>
          </a:ln>
        </p:spPr>
      </p:sp>
      <p:sp>
        <p:nvSpPr>
          <p:cNvPr id="7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87349-A49E-4E72-BE93-857D8927CA1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C89B1-F396-4A2A-A911-D56959286B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4" name="PlaceHolder 1"/>
          <p:cNvSpPr>
            <a:spLocks noGrp="1"/>
          </p:cNvSpPr>
          <p:nvPr>
            <p:ph type="sldImg"/>
          </p:nvPr>
        </p:nvSpPr>
        <p:spPr>
          <a:xfrm>
            <a:off x="985680" y="741240"/>
            <a:ext cx="4886640" cy="3665520"/>
          </a:xfrm>
          <a:prstGeom prst="rect">
            <a:avLst/>
          </a:prstGeom>
          <a:ln w="0">
            <a:noFill/>
          </a:ln>
        </p:spPr>
      </p:sp>
      <p:sp>
        <p:nvSpPr>
          <p:cNvPr id="71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130DA-72A7-4131-B17C-A13091291FD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F6585-FB3C-4CD1-9F02-C27943E047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8" name="PlaceHolder 1"/>
          <p:cNvSpPr>
            <a:spLocks noGrp="1"/>
          </p:cNvSpPr>
          <p:nvPr>
            <p:ph type="sldImg"/>
          </p:nvPr>
        </p:nvSpPr>
        <p:spPr>
          <a:xfrm>
            <a:off x="985680" y="741240"/>
            <a:ext cx="4886640" cy="3665520"/>
          </a:xfrm>
          <a:prstGeom prst="rect">
            <a:avLst/>
          </a:prstGeom>
          <a:ln w="0">
            <a:noFill/>
          </a:ln>
        </p:spPr>
      </p:sp>
      <p:sp>
        <p:nvSpPr>
          <p:cNvPr id="7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03995-608A-462B-9F66-EEB34E7D48D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2735E-BCE5-43E6-9777-588995D351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2" name="PlaceHolder 1"/>
          <p:cNvSpPr>
            <a:spLocks noGrp="1"/>
          </p:cNvSpPr>
          <p:nvPr>
            <p:ph type="sldImg"/>
          </p:nvPr>
        </p:nvSpPr>
        <p:spPr>
          <a:xfrm>
            <a:off x="985680" y="741240"/>
            <a:ext cx="4886640" cy="3665520"/>
          </a:xfrm>
          <a:prstGeom prst="rect">
            <a:avLst/>
          </a:prstGeom>
          <a:ln w="0">
            <a:noFill/>
          </a:ln>
        </p:spPr>
      </p:sp>
      <p:sp>
        <p:nvSpPr>
          <p:cNvPr id="7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E44A8-61F3-40F8-894B-6456F828E0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2545D-5F32-404C-BB28-6F305703A2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16" name="PlaceHolder 1"/>
          <p:cNvSpPr>
            <a:spLocks noGrp="1"/>
          </p:cNvSpPr>
          <p:nvPr>
            <p:ph type="sldImg"/>
          </p:nvPr>
        </p:nvSpPr>
        <p:spPr>
          <a:xfrm>
            <a:off x="985680" y="741240"/>
            <a:ext cx="4886640" cy="3665520"/>
          </a:xfrm>
          <a:prstGeom prst="rect">
            <a:avLst/>
          </a:prstGeom>
          <a:ln w="0">
            <a:noFill/>
          </a:ln>
        </p:spPr>
      </p:sp>
      <p:sp>
        <p:nvSpPr>
          <p:cNvPr id="7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C9662-674C-4298-AB44-7E1D432F50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63B89-0DC7-41B0-A911-E9AE924DFA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0" name="PlaceHolder 1"/>
          <p:cNvSpPr>
            <a:spLocks noGrp="1"/>
          </p:cNvSpPr>
          <p:nvPr>
            <p:ph type="sldImg"/>
          </p:nvPr>
        </p:nvSpPr>
        <p:spPr>
          <a:xfrm>
            <a:off x="985680" y="741240"/>
            <a:ext cx="4886640" cy="3665520"/>
          </a:xfrm>
          <a:prstGeom prst="rect">
            <a:avLst/>
          </a:prstGeom>
          <a:ln w="0">
            <a:noFill/>
          </a:ln>
        </p:spPr>
      </p:sp>
      <p:sp>
        <p:nvSpPr>
          <p:cNvPr id="7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706A7-BD65-4846-8766-4BEB0C7E22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FA448-7A15-4BBC-89E7-7F431A2F2C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4" name="PlaceHolder 1"/>
          <p:cNvSpPr>
            <a:spLocks noGrp="1"/>
          </p:cNvSpPr>
          <p:nvPr>
            <p:ph type="sldImg"/>
          </p:nvPr>
        </p:nvSpPr>
        <p:spPr>
          <a:xfrm>
            <a:off x="985680" y="741240"/>
            <a:ext cx="4886640" cy="3665520"/>
          </a:xfrm>
          <a:prstGeom prst="rect">
            <a:avLst/>
          </a:prstGeom>
          <a:ln w="0">
            <a:noFill/>
          </a:ln>
        </p:spPr>
      </p:sp>
      <p:sp>
        <p:nvSpPr>
          <p:cNvPr id="7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7B59D-ED01-46F3-8861-D94F8FEAEC1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C3741-100C-4EBB-9395-E9C3C70F2B6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28" name="PlaceHolder 1"/>
          <p:cNvSpPr>
            <a:spLocks noGrp="1"/>
          </p:cNvSpPr>
          <p:nvPr>
            <p:ph type="sldImg"/>
          </p:nvPr>
        </p:nvSpPr>
        <p:spPr>
          <a:xfrm>
            <a:off x="985680" y="741240"/>
            <a:ext cx="4886640" cy="3665520"/>
          </a:xfrm>
          <a:prstGeom prst="rect">
            <a:avLst/>
          </a:prstGeom>
          <a:ln w="0">
            <a:noFill/>
          </a:ln>
        </p:spPr>
      </p:sp>
      <p:sp>
        <p:nvSpPr>
          <p:cNvPr id="7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40D1B-8A98-41FE-91E7-2E60383459A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AE668-6D3F-4175-9C3F-E9A3FE3D1B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2" name="PlaceHolder 1"/>
          <p:cNvSpPr>
            <a:spLocks noGrp="1"/>
          </p:cNvSpPr>
          <p:nvPr>
            <p:ph type="sldImg"/>
          </p:nvPr>
        </p:nvSpPr>
        <p:spPr>
          <a:xfrm>
            <a:off x="985680" y="741240"/>
            <a:ext cx="4886640" cy="3665520"/>
          </a:xfrm>
          <a:prstGeom prst="rect">
            <a:avLst/>
          </a:prstGeom>
          <a:ln w="0">
            <a:noFill/>
          </a:ln>
        </p:spPr>
      </p:sp>
      <p:sp>
        <p:nvSpPr>
          <p:cNvPr id="7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B05B5-CA8E-4A5E-9345-9E116AE6E1D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DC43A-68E7-4CBF-9962-D51EC9D4CE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28" name="PlaceHolder 1"/>
          <p:cNvSpPr>
            <a:spLocks noGrp="1"/>
          </p:cNvSpPr>
          <p:nvPr>
            <p:ph type="sldImg"/>
          </p:nvPr>
        </p:nvSpPr>
        <p:spPr>
          <a:xfrm>
            <a:off x="985680" y="741240"/>
            <a:ext cx="4886640" cy="3665520"/>
          </a:xfrm>
          <a:prstGeom prst="rect">
            <a:avLst/>
          </a:prstGeom>
          <a:ln w="0">
            <a:noFill/>
          </a:ln>
        </p:spPr>
      </p:sp>
      <p:sp>
        <p:nvSpPr>
          <p:cNvPr id="7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2A864-5AFF-4048-AA54-47D1E83C224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85F33-16B7-47BC-A741-B86BBC78B0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6" name="PlaceHolder 1"/>
          <p:cNvSpPr>
            <a:spLocks noGrp="1"/>
          </p:cNvSpPr>
          <p:nvPr>
            <p:ph type="sldImg"/>
          </p:nvPr>
        </p:nvSpPr>
        <p:spPr>
          <a:xfrm>
            <a:off x="985680" y="741240"/>
            <a:ext cx="4886640" cy="3665520"/>
          </a:xfrm>
          <a:prstGeom prst="rect">
            <a:avLst/>
          </a:prstGeom>
          <a:ln w="0">
            <a:noFill/>
          </a:ln>
        </p:spPr>
      </p:sp>
      <p:sp>
        <p:nvSpPr>
          <p:cNvPr id="7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07A22-5767-41EC-901D-CAC03DDB025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C8ACC-CACB-4FC2-9358-782CC50108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0" name="PlaceHolder 1"/>
          <p:cNvSpPr>
            <a:spLocks noGrp="1"/>
          </p:cNvSpPr>
          <p:nvPr>
            <p:ph type="sldImg"/>
          </p:nvPr>
        </p:nvSpPr>
        <p:spPr>
          <a:xfrm>
            <a:off x="985680" y="741240"/>
            <a:ext cx="4886640" cy="3665520"/>
          </a:xfrm>
          <a:prstGeom prst="rect">
            <a:avLst/>
          </a:prstGeom>
          <a:ln w="0">
            <a:noFill/>
          </a:ln>
        </p:spPr>
      </p:sp>
      <p:sp>
        <p:nvSpPr>
          <p:cNvPr id="7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353CC-823B-4460-B4B3-503C544EFD2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4B6B7-81E8-4272-AF03-240117ED6C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4" name="PlaceHolder 1"/>
          <p:cNvSpPr>
            <a:spLocks noGrp="1"/>
          </p:cNvSpPr>
          <p:nvPr>
            <p:ph type="sldImg"/>
          </p:nvPr>
        </p:nvSpPr>
        <p:spPr>
          <a:xfrm>
            <a:off x="985680" y="741240"/>
            <a:ext cx="4886640" cy="3665520"/>
          </a:xfrm>
          <a:prstGeom prst="rect">
            <a:avLst/>
          </a:prstGeom>
          <a:ln w="0">
            <a:noFill/>
          </a:ln>
        </p:spPr>
      </p:sp>
      <p:sp>
        <p:nvSpPr>
          <p:cNvPr id="7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26A63-436E-4306-88AB-61DA9FB7B0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FC82F-0E40-4B14-A0AC-2C3330C97A2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48" name="PlaceHolder 1"/>
          <p:cNvSpPr>
            <a:spLocks noGrp="1"/>
          </p:cNvSpPr>
          <p:nvPr>
            <p:ph type="sldImg"/>
          </p:nvPr>
        </p:nvSpPr>
        <p:spPr>
          <a:xfrm>
            <a:off x="985680" y="741240"/>
            <a:ext cx="4886640" cy="3665520"/>
          </a:xfrm>
          <a:prstGeom prst="rect">
            <a:avLst/>
          </a:prstGeom>
          <a:ln w="0">
            <a:noFill/>
          </a:ln>
        </p:spPr>
      </p:sp>
      <p:sp>
        <p:nvSpPr>
          <p:cNvPr id="7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F0756-BF47-4E76-85B9-955A99E9B79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FC9CE-524B-4713-A998-00A6C552ED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2" name="PlaceHolder 1"/>
          <p:cNvSpPr>
            <a:spLocks noGrp="1"/>
          </p:cNvSpPr>
          <p:nvPr>
            <p:ph type="sldImg"/>
          </p:nvPr>
        </p:nvSpPr>
        <p:spPr>
          <a:xfrm>
            <a:off x="985680" y="741240"/>
            <a:ext cx="4886640" cy="3665520"/>
          </a:xfrm>
          <a:prstGeom prst="rect">
            <a:avLst/>
          </a:prstGeom>
          <a:ln w="0">
            <a:noFill/>
          </a:ln>
        </p:spPr>
      </p:sp>
      <p:sp>
        <p:nvSpPr>
          <p:cNvPr id="7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30D85-82FD-4207-9525-6BAFCAF4866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CFA0E-F870-49E2-9493-F4FE8A07A96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56" name="PlaceHolder 1"/>
          <p:cNvSpPr>
            <a:spLocks noGrp="1"/>
          </p:cNvSpPr>
          <p:nvPr>
            <p:ph type="sldImg"/>
          </p:nvPr>
        </p:nvSpPr>
        <p:spPr>
          <a:xfrm>
            <a:off x="985680" y="741240"/>
            <a:ext cx="4886640" cy="3665520"/>
          </a:xfrm>
          <a:prstGeom prst="rect">
            <a:avLst/>
          </a:prstGeom>
          <a:ln w="0">
            <a:noFill/>
          </a:ln>
        </p:spPr>
      </p:sp>
      <p:sp>
        <p:nvSpPr>
          <p:cNvPr id="7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E1249-D525-421C-9D97-6DCB3FE89A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075C4-6025-4336-8B78-B8945947CC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0" name="PlaceHolder 1"/>
          <p:cNvSpPr>
            <a:spLocks noGrp="1"/>
          </p:cNvSpPr>
          <p:nvPr>
            <p:ph type="sldImg"/>
          </p:nvPr>
        </p:nvSpPr>
        <p:spPr>
          <a:xfrm>
            <a:off x="985680" y="741240"/>
            <a:ext cx="4886640" cy="3665520"/>
          </a:xfrm>
          <a:prstGeom prst="rect">
            <a:avLst/>
          </a:prstGeom>
          <a:ln w="0">
            <a:noFill/>
          </a:ln>
        </p:spPr>
      </p:sp>
      <p:sp>
        <p:nvSpPr>
          <p:cNvPr id="7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003CF-861A-47B8-97DA-02DDEFBF687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BF309-132D-452A-A035-A74C9EC5785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4" name="PlaceHolder 1"/>
          <p:cNvSpPr>
            <a:spLocks noGrp="1"/>
          </p:cNvSpPr>
          <p:nvPr>
            <p:ph type="sldImg"/>
          </p:nvPr>
        </p:nvSpPr>
        <p:spPr>
          <a:xfrm>
            <a:off x="985680" y="741240"/>
            <a:ext cx="4886640" cy="3665520"/>
          </a:xfrm>
          <a:prstGeom prst="rect">
            <a:avLst/>
          </a:prstGeom>
          <a:ln w="0">
            <a:noFill/>
          </a:ln>
        </p:spPr>
      </p:sp>
      <p:sp>
        <p:nvSpPr>
          <p:cNvPr id="7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DFB5D-19E4-4CFC-9A8C-8363B949A63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3CD4B-C196-439C-AE43-0BDF688C88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8" name="PlaceHolder 1"/>
          <p:cNvSpPr>
            <a:spLocks noGrp="1"/>
          </p:cNvSpPr>
          <p:nvPr>
            <p:ph type="sldImg"/>
          </p:nvPr>
        </p:nvSpPr>
        <p:spPr>
          <a:xfrm>
            <a:off x="985680" y="741240"/>
            <a:ext cx="4886640" cy="3665520"/>
          </a:xfrm>
          <a:prstGeom prst="rect">
            <a:avLst/>
          </a:prstGeom>
          <a:ln w="0">
            <a:noFill/>
          </a:ln>
        </p:spPr>
      </p:sp>
      <p:sp>
        <p:nvSpPr>
          <p:cNvPr id="7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3424C-C07A-414E-A4C6-B8CCA293A5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716FB-5E73-4B17-8B0D-57702FC074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2" name="PlaceHolder 1"/>
          <p:cNvSpPr>
            <a:spLocks noGrp="1"/>
          </p:cNvSpPr>
          <p:nvPr>
            <p:ph type="sldImg"/>
          </p:nvPr>
        </p:nvSpPr>
        <p:spPr>
          <a:xfrm>
            <a:off x="985680" y="741240"/>
            <a:ext cx="4886640" cy="3665520"/>
          </a:xfrm>
          <a:prstGeom prst="rect">
            <a:avLst/>
          </a:prstGeom>
          <a:ln w="0">
            <a:noFill/>
          </a:ln>
        </p:spPr>
      </p:sp>
      <p:sp>
        <p:nvSpPr>
          <p:cNvPr id="7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CE331-1D6C-482C-842B-67CDA2B8ED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8B05B-105C-4C14-86B2-5BA96951B9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2" name="PlaceHolder 1"/>
          <p:cNvSpPr>
            <a:spLocks noGrp="1"/>
          </p:cNvSpPr>
          <p:nvPr>
            <p:ph type="sldImg"/>
          </p:nvPr>
        </p:nvSpPr>
        <p:spPr>
          <a:xfrm>
            <a:off x="985680" y="741240"/>
            <a:ext cx="4886640" cy="3665520"/>
          </a:xfrm>
          <a:prstGeom prst="rect">
            <a:avLst/>
          </a:prstGeom>
          <a:ln w="0">
            <a:noFill/>
          </a:ln>
        </p:spPr>
      </p:sp>
      <p:sp>
        <p:nvSpPr>
          <p:cNvPr id="70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93450-D69D-4CBE-81E7-5DCA78BCD79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05308-7927-422C-8C9D-A1E7EA5203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76" name="PlaceHolder 1"/>
          <p:cNvSpPr>
            <a:spLocks noGrp="1"/>
          </p:cNvSpPr>
          <p:nvPr>
            <p:ph type="sldImg"/>
          </p:nvPr>
        </p:nvSpPr>
        <p:spPr>
          <a:xfrm>
            <a:off x="985680" y="741240"/>
            <a:ext cx="4886640" cy="3665520"/>
          </a:xfrm>
          <a:prstGeom prst="rect">
            <a:avLst/>
          </a:prstGeom>
          <a:ln w="0">
            <a:noFill/>
          </a:ln>
        </p:spPr>
      </p:sp>
      <p:sp>
        <p:nvSpPr>
          <p:cNvPr id="7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A2C4C-2FAF-4EDC-83F1-EA2B34C7336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10382-76C5-4630-A879-799EBE428D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0" name="PlaceHolder 1"/>
          <p:cNvSpPr>
            <a:spLocks noGrp="1"/>
          </p:cNvSpPr>
          <p:nvPr>
            <p:ph type="sldImg"/>
          </p:nvPr>
        </p:nvSpPr>
        <p:spPr>
          <a:xfrm>
            <a:off x="985680" y="741240"/>
            <a:ext cx="4886640" cy="3665520"/>
          </a:xfrm>
          <a:prstGeom prst="rect">
            <a:avLst/>
          </a:prstGeom>
          <a:ln w="0">
            <a:noFill/>
          </a:ln>
        </p:spPr>
      </p:sp>
      <p:sp>
        <p:nvSpPr>
          <p:cNvPr id="7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3ECAB-8170-41AC-8E2A-85286CE2FD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D3CE6-4526-469E-BFFE-BC0C41EC49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4" name="PlaceHolder 1"/>
          <p:cNvSpPr>
            <a:spLocks noGrp="1"/>
          </p:cNvSpPr>
          <p:nvPr>
            <p:ph type="sldImg"/>
          </p:nvPr>
        </p:nvSpPr>
        <p:spPr>
          <a:xfrm>
            <a:off x="985680" y="741240"/>
            <a:ext cx="4886640" cy="3665520"/>
          </a:xfrm>
          <a:prstGeom prst="rect">
            <a:avLst/>
          </a:prstGeom>
          <a:ln w="0">
            <a:noFill/>
          </a:ln>
        </p:spPr>
      </p:sp>
      <p:sp>
        <p:nvSpPr>
          <p:cNvPr id="7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0072C-2C0F-4FA8-B581-D8128E462B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E7E4C-7429-4DD5-992F-AB46E8B967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88" name="PlaceHolder 1"/>
          <p:cNvSpPr>
            <a:spLocks noGrp="1"/>
          </p:cNvSpPr>
          <p:nvPr>
            <p:ph type="sldImg"/>
          </p:nvPr>
        </p:nvSpPr>
        <p:spPr>
          <a:xfrm>
            <a:off x="985680" y="741240"/>
            <a:ext cx="4886640" cy="3665520"/>
          </a:xfrm>
          <a:prstGeom prst="rect">
            <a:avLst/>
          </a:prstGeom>
          <a:ln w="0">
            <a:noFill/>
          </a:ln>
        </p:spPr>
      </p:sp>
      <p:sp>
        <p:nvSpPr>
          <p:cNvPr id="7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EC412-7E9D-4E4D-AC3D-71F9827D77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E136E-B42F-466E-A3B3-C67DBA99F1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2" name="PlaceHolder 1"/>
          <p:cNvSpPr>
            <a:spLocks noGrp="1"/>
          </p:cNvSpPr>
          <p:nvPr>
            <p:ph type="sldImg"/>
          </p:nvPr>
        </p:nvSpPr>
        <p:spPr>
          <a:xfrm>
            <a:off x="985680" y="741240"/>
            <a:ext cx="4886640" cy="3665520"/>
          </a:xfrm>
          <a:prstGeom prst="rect">
            <a:avLst/>
          </a:prstGeom>
          <a:ln w="0">
            <a:noFill/>
          </a:ln>
        </p:spPr>
      </p:sp>
      <p:sp>
        <p:nvSpPr>
          <p:cNvPr id="7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4B1CD-A0A2-4526-BB92-98681F6C51F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8CBF2-B392-4052-9765-5BED3DA0AD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6" name="PlaceHolder 1"/>
          <p:cNvSpPr>
            <a:spLocks noGrp="1"/>
          </p:cNvSpPr>
          <p:nvPr>
            <p:ph type="sldImg"/>
          </p:nvPr>
        </p:nvSpPr>
        <p:spPr>
          <a:xfrm>
            <a:off x="985680" y="741240"/>
            <a:ext cx="4886640" cy="3665520"/>
          </a:xfrm>
          <a:prstGeom prst="rect">
            <a:avLst/>
          </a:prstGeom>
          <a:ln w="0">
            <a:noFill/>
          </a:ln>
        </p:spPr>
      </p:sp>
      <p:sp>
        <p:nvSpPr>
          <p:cNvPr id="7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B444B-CFE9-45DF-BC15-1634D340E56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19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B9BD9-C56A-48C8-854D-DA234D9328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0" name="PlaceHolder 1"/>
          <p:cNvSpPr>
            <a:spLocks noGrp="1"/>
          </p:cNvSpPr>
          <p:nvPr>
            <p:ph type="sldImg"/>
          </p:nvPr>
        </p:nvSpPr>
        <p:spPr>
          <a:xfrm>
            <a:off x="985680" y="741240"/>
            <a:ext cx="4886640" cy="3665520"/>
          </a:xfrm>
          <a:prstGeom prst="rect">
            <a:avLst/>
          </a:prstGeom>
          <a:ln w="0">
            <a:noFill/>
          </a:ln>
        </p:spPr>
      </p:sp>
      <p:sp>
        <p:nvSpPr>
          <p:cNvPr id="7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2FE35-3560-4345-9C09-6147A5B78A5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17578-8016-47EA-9BAE-252F51A27D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4" name="PlaceHolder 1"/>
          <p:cNvSpPr>
            <a:spLocks noGrp="1"/>
          </p:cNvSpPr>
          <p:nvPr>
            <p:ph type="sldImg"/>
          </p:nvPr>
        </p:nvSpPr>
        <p:spPr>
          <a:xfrm>
            <a:off x="985680" y="741240"/>
            <a:ext cx="4886640" cy="3665520"/>
          </a:xfrm>
          <a:prstGeom prst="rect">
            <a:avLst/>
          </a:prstGeom>
          <a:ln w="0">
            <a:noFill/>
          </a:ln>
        </p:spPr>
      </p:sp>
      <p:sp>
        <p:nvSpPr>
          <p:cNvPr id="7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4B817-C492-4995-801F-C065B1347B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0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06947-6C8A-4EFC-92D9-B78CC2AB5A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08" name="PlaceHolder 1"/>
          <p:cNvSpPr>
            <a:spLocks noGrp="1"/>
          </p:cNvSpPr>
          <p:nvPr>
            <p:ph type="sldImg"/>
          </p:nvPr>
        </p:nvSpPr>
        <p:spPr>
          <a:xfrm>
            <a:off x="985680" y="741240"/>
            <a:ext cx="4886640" cy="3665520"/>
          </a:xfrm>
          <a:prstGeom prst="rect">
            <a:avLst/>
          </a:prstGeom>
          <a:ln w="0">
            <a:noFill/>
          </a:ln>
        </p:spPr>
      </p:sp>
      <p:sp>
        <p:nvSpPr>
          <p:cNvPr id="7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4D0DC-A580-4343-B1D6-D7DE35932B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9E2F7-0937-41AD-B169-1595F4A02E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2" name="PlaceHolder 1"/>
          <p:cNvSpPr>
            <a:spLocks noGrp="1"/>
          </p:cNvSpPr>
          <p:nvPr>
            <p:ph type="sldImg"/>
          </p:nvPr>
        </p:nvSpPr>
        <p:spPr>
          <a:xfrm>
            <a:off x="985680" y="741240"/>
            <a:ext cx="4886640" cy="3665520"/>
          </a:xfrm>
          <a:prstGeom prst="rect">
            <a:avLst/>
          </a:prstGeom>
          <a:ln w="0">
            <a:noFill/>
          </a:ln>
        </p:spPr>
      </p:sp>
      <p:sp>
        <p:nvSpPr>
          <p:cNvPr id="7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41DEC-1C9D-491B-AB84-3F6857185F9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CBAFF-C973-424C-9DD3-761A0A38623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36" name="PlaceHolder 1"/>
          <p:cNvSpPr>
            <a:spLocks noGrp="1"/>
          </p:cNvSpPr>
          <p:nvPr>
            <p:ph type="sldImg"/>
          </p:nvPr>
        </p:nvSpPr>
        <p:spPr>
          <a:xfrm>
            <a:off x="985680" y="741240"/>
            <a:ext cx="4886640" cy="3665520"/>
          </a:xfrm>
          <a:prstGeom prst="rect">
            <a:avLst/>
          </a:prstGeom>
          <a:ln w="0">
            <a:noFill/>
          </a:ln>
        </p:spPr>
      </p:sp>
      <p:sp>
        <p:nvSpPr>
          <p:cNvPr id="7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E5E49-F45F-48F4-B38B-136360AA3C3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FF7EB-984C-4275-B222-FB4BAC5097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16" name="PlaceHolder 1"/>
          <p:cNvSpPr>
            <a:spLocks noGrp="1"/>
          </p:cNvSpPr>
          <p:nvPr>
            <p:ph type="sldImg"/>
          </p:nvPr>
        </p:nvSpPr>
        <p:spPr>
          <a:xfrm>
            <a:off x="985680" y="741240"/>
            <a:ext cx="4886640" cy="3665520"/>
          </a:xfrm>
          <a:prstGeom prst="rect">
            <a:avLst/>
          </a:prstGeom>
          <a:ln w="0">
            <a:noFill/>
          </a:ln>
        </p:spPr>
      </p:sp>
      <p:sp>
        <p:nvSpPr>
          <p:cNvPr id="7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8C7DB-4D97-4CB6-87D1-A7DB9A708A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1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8EE7B-D1D0-41C5-849E-63F39EA86A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0" name="PlaceHolder 1"/>
          <p:cNvSpPr>
            <a:spLocks noGrp="1"/>
          </p:cNvSpPr>
          <p:nvPr>
            <p:ph type="sldImg"/>
          </p:nvPr>
        </p:nvSpPr>
        <p:spPr>
          <a:xfrm>
            <a:off x="985680" y="741240"/>
            <a:ext cx="4886640" cy="3665520"/>
          </a:xfrm>
          <a:prstGeom prst="rect">
            <a:avLst/>
          </a:prstGeom>
          <a:ln w="0">
            <a:noFill/>
          </a:ln>
        </p:spPr>
      </p:sp>
      <p:sp>
        <p:nvSpPr>
          <p:cNvPr id="7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D0619-2C02-42F8-96B7-DF54D16BA9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538C2-2288-4780-BA99-CB6DECF1C4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4" name="PlaceHolder 1"/>
          <p:cNvSpPr>
            <a:spLocks noGrp="1"/>
          </p:cNvSpPr>
          <p:nvPr>
            <p:ph type="sldImg"/>
          </p:nvPr>
        </p:nvSpPr>
        <p:spPr>
          <a:xfrm>
            <a:off x="985680" y="741240"/>
            <a:ext cx="4886640" cy="3665520"/>
          </a:xfrm>
          <a:prstGeom prst="rect">
            <a:avLst/>
          </a:prstGeom>
          <a:ln w="0">
            <a:noFill/>
          </a:ln>
        </p:spPr>
      </p:sp>
      <p:sp>
        <p:nvSpPr>
          <p:cNvPr id="7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363A8-9FA5-448B-ACA8-7B58C4BA739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2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F1980-B1E2-4204-8B4A-2A23D9B338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8" name="PlaceHolder 1"/>
          <p:cNvSpPr>
            <a:spLocks noGrp="1"/>
          </p:cNvSpPr>
          <p:nvPr>
            <p:ph type="sldImg"/>
          </p:nvPr>
        </p:nvSpPr>
        <p:spPr>
          <a:xfrm>
            <a:off x="985680" y="741240"/>
            <a:ext cx="4886640" cy="3665520"/>
          </a:xfrm>
          <a:prstGeom prst="rect">
            <a:avLst/>
          </a:prstGeom>
          <a:ln w="0">
            <a:noFill/>
          </a:ln>
        </p:spPr>
      </p:sp>
      <p:sp>
        <p:nvSpPr>
          <p:cNvPr id="7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4A89F-48AE-4FC7-9045-C75EF68905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1CEEE-6D11-4CE3-88D7-5771DB415B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2" name="PlaceHolder 1"/>
          <p:cNvSpPr>
            <a:spLocks noGrp="1"/>
          </p:cNvSpPr>
          <p:nvPr>
            <p:ph type="sldImg"/>
          </p:nvPr>
        </p:nvSpPr>
        <p:spPr>
          <a:xfrm>
            <a:off x="985680" y="741240"/>
            <a:ext cx="4886640" cy="3665520"/>
          </a:xfrm>
          <a:prstGeom prst="rect">
            <a:avLst/>
          </a:prstGeom>
          <a:ln w="0">
            <a:noFill/>
          </a:ln>
        </p:spPr>
      </p:sp>
      <p:sp>
        <p:nvSpPr>
          <p:cNvPr id="7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61046-5450-451C-9659-53F925DEA8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3C24C-662B-41C9-A412-5F928D50CB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36" name="PlaceHolder 1"/>
          <p:cNvSpPr>
            <a:spLocks noGrp="1"/>
          </p:cNvSpPr>
          <p:nvPr>
            <p:ph type="sldImg"/>
          </p:nvPr>
        </p:nvSpPr>
        <p:spPr>
          <a:xfrm>
            <a:off x="985680" y="741240"/>
            <a:ext cx="4886640" cy="3665520"/>
          </a:xfrm>
          <a:prstGeom prst="rect">
            <a:avLst/>
          </a:prstGeom>
          <a:ln w="0">
            <a:noFill/>
          </a:ln>
        </p:spPr>
      </p:sp>
      <p:sp>
        <p:nvSpPr>
          <p:cNvPr id="7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961E4-0618-4E2A-8115-F11C44D9B1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D7D0D-2298-4000-911B-B3F1E7CDFA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0" name="PlaceHolder 1"/>
          <p:cNvSpPr>
            <a:spLocks noGrp="1"/>
          </p:cNvSpPr>
          <p:nvPr>
            <p:ph type="sldImg"/>
          </p:nvPr>
        </p:nvSpPr>
        <p:spPr>
          <a:xfrm>
            <a:off x="985680" y="741240"/>
            <a:ext cx="4886640" cy="3665520"/>
          </a:xfrm>
          <a:prstGeom prst="rect">
            <a:avLst/>
          </a:prstGeom>
          <a:ln w="0">
            <a:noFill/>
          </a:ln>
        </p:spPr>
      </p:sp>
      <p:sp>
        <p:nvSpPr>
          <p:cNvPr id="7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91485-6319-4AFE-8E5D-96F8604B273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2D7F8-4E16-4615-89DC-D6BAD6704D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4" name="PlaceHolder 1"/>
          <p:cNvSpPr>
            <a:spLocks noGrp="1"/>
          </p:cNvSpPr>
          <p:nvPr>
            <p:ph type="sldImg"/>
          </p:nvPr>
        </p:nvSpPr>
        <p:spPr>
          <a:xfrm>
            <a:off x="985680" y="741240"/>
            <a:ext cx="4886640" cy="3665520"/>
          </a:xfrm>
          <a:prstGeom prst="rect">
            <a:avLst/>
          </a:prstGeom>
          <a:ln w="0">
            <a:noFill/>
          </a:ln>
        </p:spPr>
      </p:sp>
      <p:sp>
        <p:nvSpPr>
          <p:cNvPr id="7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EF89E-F378-4746-A993-FDD0C0AF3B3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9A8BE-A541-4EEA-A8A4-CC46D20248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48" name="PlaceHolder 1"/>
          <p:cNvSpPr>
            <a:spLocks noGrp="1"/>
          </p:cNvSpPr>
          <p:nvPr>
            <p:ph type="sldImg"/>
          </p:nvPr>
        </p:nvSpPr>
        <p:spPr>
          <a:xfrm>
            <a:off x="985680" y="741240"/>
            <a:ext cx="4886640" cy="3665520"/>
          </a:xfrm>
          <a:prstGeom prst="rect">
            <a:avLst/>
          </a:prstGeom>
          <a:ln w="0">
            <a:noFill/>
          </a:ln>
        </p:spPr>
      </p:sp>
      <p:sp>
        <p:nvSpPr>
          <p:cNvPr id="7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7B9A8-5CC4-42A4-8E53-4DEB191B223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C62FF-25AD-4771-9333-0413457CEC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2" name="PlaceHolder 1"/>
          <p:cNvSpPr>
            <a:spLocks noGrp="1"/>
          </p:cNvSpPr>
          <p:nvPr>
            <p:ph type="sldImg"/>
          </p:nvPr>
        </p:nvSpPr>
        <p:spPr>
          <a:xfrm>
            <a:off x="985680" y="741240"/>
            <a:ext cx="4886640" cy="3665520"/>
          </a:xfrm>
          <a:prstGeom prst="rect">
            <a:avLst/>
          </a:prstGeom>
          <a:ln w="0">
            <a:noFill/>
          </a:ln>
        </p:spPr>
      </p:sp>
      <p:sp>
        <p:nvSpPr>
          <p:cNvPr id="7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9DD52-D801-42D5-B9EC-267A31E4B9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3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CEE47-AD6A-42A8-A784-B23AB0B8BF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0" name="PlaceHolder 1"/>
          <p:cNvSpPr>
            <a:spLocks noGrp="1"/>
          </p:cNvSpPr>
          <p:nvPr>
            <p:ph type="sldImg"/>
          </p:nvPr>
        </p:nvSpPr>
        <p:spPr>
          <a:xfrm>
            <a:off x="985680" y="741240"/>
            <a:ext cx="4886640" cy="3665520"/>
          </a:xfrm>
          <a:prstGeom prst="rect">
            <a:avLst/>
          </a:prstGeom>
          <a:ln w="0">
            <a:noFill/>
          </a:ln>
        </p:spPr>
      </p:sp>
      <p:sp>
        <p:nvSpPr>
          <p:cNvPr id="7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35AD2-B59F-4B27-A4E9-1D833951C7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72D86-50D5-4BD7-ADBC-182E7A55B0C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6" name="PlaceHolder 1"/>
          <p:cNvSpPr>
            <a:spLocks noGrp="1"/>
          </p:cNvSpPr>
          <p:nvPr>
            <p:ph type="sldImg"/>
          </p:nvPr>
        </p:nvSpPr>
        <p:spPr>
          <a:xfrm>
            <a:off x="985680" y="741240"/>
            <a:ext cx="4886640" cy="3665520"/>
          </a:xfrm>
          <a:prstGeom prst="rect">
            <a:avLst/>
          </a:prstGeom>
          <a:ln w="0">
            <a:noFill/>
          </a:ln>
        </p:spPr>
      </p:sp>
      <p:sp>
        <p:nvSpPr>
          <p:cNvPr id="7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AA6FD-5E78-4350-A8C7-4C7C3FDFE97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5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2C0D2-7EA5-4133-A756-9C94B31C55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0" name="PlaceHolder 1"/>
          <p:cNvSpPr>
            <a:spLocks noGrp="1"/>
          </p:cNvSpPr>
          <p:nvPr>
            <p:ph type="sldImg"/>
          </p:nvPr>
        </p:nvSpPr>
        <p:spPr>
          <a:xfrm>
            <a:off x="985680" y="741240"/>
            <a:ext cx="4886640" cy="3665520"/>
          </a:xfrm>
          <a:prstGeom prst="rect">
            <a:avLst/>
          </a:prstGeom>
          <a:ln w="0">
            <a:noFill/>
          </a:ln>
        </p:spPr>
      </p:sp>
      <p:sp>
        <p:nvSpPr>
          <p:cNvPr id="7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F9617-C08B-4D1A-B31D-DF8CFF7B82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9E9CD-C600-4A82-8A9A-7FF1EAF311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4" name="PlaceHolder 1"/>
          <p:cNvSpPr>
            <a:spLocks noGrp="1"/>
          </p:cNvSpPr>
          <p:nvPr>
            <p:ph type="sldImg"/>
          </p:nvPr>
        </p:nvSpPr>
        <p:spPr>
          <a:xfrm>
            <a:off x="985680" y="741240"/>
            <a:ext cx="4886640" cy="3665520"/>
          </a:xfrm>
          <a:prstGeom prst="rect">
            <a:avLst/>
          </a:prstGeom>
          <a:ln w="0">
            <a:noFill/>
          </a:ln>
        </p:spPr>
      </p:sp>
      <p:sp>
        <p:nvSpPr>
          <p:cNvPr id="7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F321E-8670-480C-AE83-7E74C68BB10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6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98DE1-73C4-41FB-9678-8166CE0040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68" name="PlaceHolder 1"/>
          <p:cNvSpPr>
            <a:spLocks noGrp="1"/>
          </p:cNvSpPr>
          <p:nvPr>
            <p:ph type="sldImg"/>
          </p:nvPr>
        </p:nvSpPr>
        <p:spPr>
          <a:xfrm>
            <a:off x="985680" y="741240"/>
            <a:ext cx="4886640" cy="3665520"/>
          </a:xfrm>
          <a:prstGeom prst="rect">
            <a:avLst/>
          </a:prstGeom>
          <a:ln w="0">
            <a:noFill/>
          </a:ln>
        </p:spPr>
      </p:sp>
      <p:sp>
        <p:nvSpPr>
          <p:cNvPr id="7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431A3-2980-48D8-813A-D9B22A266A6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3D519-4E5E-41F7-9036-6125B4BE3F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2" name="PlaceHolder 1"/>
          <p:cNvSpPr>
            <a:spLocks noGrp="1"/>
          </p:cNvSpPr>
          <p:nvPr>
            <p:ph type="sldImg"/>
          </p:nvPr>
        </p:nvSpPr>
        <p:spPr>
          <a:xfrm>
            <a:off x="985680" y="741240"/>
            <a:ext cx="4886640" cy="3665520"/>
          </a:xfrm>
          <a:prstGeom prst="rect">
            <a:avLst/>
          </a:prstGeom>
          <a:ln w="0">
            <a:noFill/>
          </a:ln>
        </p:spPr>
      </p:sp>
      <p:sp>
        <p:nvSpPr>
          <p:cNvPr id="7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3D15F-89FA-4414-AE3F-DAA728F45A7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5C537-E568-409E-91EA-348A020E1B3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76" name="PlaceHolder 1"/>
          <p:cNvSpPr>
            <a:spLocks noGrp="1"/>
          </p:cNvSpPr>
          <p:nvPr>
            <p:ph type="sldImg"/>
          </p:nvPr>
        </p:nvSpPr>
        <p:spPr>
          <a:xfrm>
            <a:off x="985680" y="741240"/>
            <a:ext cx="4886640" cy="3665520"/>
          </a:xfrm>
          <a:prstGeom prst="rect">
            <a:avLst/>
          </a:prstGeom>
          <a:ln w="0">
            <a:noFill/>
          </a:ln>
        </p:spPr>
      </p:sp>
      <p:sp>
        <p:nvSpPr>
          <p:cNvPr id="7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CF6AE-1079-40AA-809F-97642BD4FBE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7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1A829-6619-47C4-B6AC-04409B4669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0" name="PlaceHolder 1"/>
          <p:cNvSpPr>
            <a:spLocks noGrp="1"/>
          </p:cNvSpPr>
          <p:nvPr>
            <p:ph type="sldImg"/>
          </p:nvPr>
        </p:nvSpPr>
        <p:spPr>
          <a:xfrm>
            <a:off x="985680" y="741240"/>
            <a:ext cx="4886640" cy="3665520"/>
          </a:xfrm>
          <a:prstGeom prst="rect">
            <a:avLst/>
          </a:prstGeom>
          <a:ln w="0">
            <a:noFill/>
          </a:ln>
        </p:spPr>
      </p:sp>
      <p:sp>
        <p:nvSpPr>
          <p:cNvPr id="7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6AADC-BC0C-4D88-AFFB-8640060F20F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3A1D9-AC1B-4A81-B39F-06E967086B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4" name="PlaceHolder 1"/>
          <p:cNvSpPr>
            <a:spLocks noGrp="1"/>
          </p:cNvSpPr>
          <p:nvPr>
            <p:ph type="sldImg"/>
          </p:nvPr>
        </p:nvSpPr>
        <p:spPr>
          <a:xfrm>
            <a:off x="985680" y="741240"/>
            <a:ext cx="4886640" cy="3665520"/>
          </a:xfrm>
          <a:prstGeom prst="rect">
            <a:avLst/>
          </a:prstGeom>
          <a:ln w="0">
            <a:noFill/>
          </a:ln>
        </p:spPr>
      </p:sp>
      <p:sp>
        <p:nvSpPr>
          <p:cNvPr id="7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C8E56-2E21-4FA3-B789-B0406E14378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8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D0822-2A4F-4E44-B4CD-8E1B059D2A1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8" name="PlaceHolder 1"/>
          <p:cNvSpPr>
            <a:spLocks noGrp="1"/>
          </p:cNvSpPr>
          <p:nvPr>
            <p:ph type="sldImg"/>
          </p:nvPr>
        </p:nvSpPr>
        <p:spPr>
          <a:xfrm>
            <a:off x="985680" y="741240"/>
            <a:ext cx="4886640" cy="3665520"/>
          </a:xfrm>
          <a:prstGeom prst="rect">
            <a:avLst/>
          </a:prstGeom>
          <a:ln w="0">
            <a:noFill/>
          </a:ln>
        </p:spPr>
      </p:sp>
      <p:sp>
        <p:nvSpPr>
          <p:cNvPr id="7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01CF3-7004-4D4A-9F02-66EB0BD1F8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C783A-97AC-4699-A208-E0BD2653B25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92" name="PlaceHolder 1"/>
          <p:cNvSpPr>
            <a:spLocks noGrp="1"/>
          </p:cNvSpPr>
          <p:nvPr>
            <p:ph type="sldImg"/>
          </p:nvPr>
        </p:nvSpPr>
        <p:spPr>
          <a:xfrm>
            <a:off x="985680" y="741240"/>
            <a:ext cx="4886640" cy="3665520"/>
          </a:xfrm>
          <a:prstGeom prst="rect">
            <a:avLst/>
          </a:prstGeom>
          <a:ln w="0">
            <a:noFill/>
          </a:ln>
        </p:spPr>
      </p:sp>
      <p:sp>
        <p:nvSpPr>
          <p:cNvPr id="7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051D7-1892-4207-9CF9-0D7F54072A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48E7B-F453-4A9D-86D3-186FAC0C1F8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4" name="PlaceHolder 1"/>
          <p:cNvSpPr>
            <a:spLocks noGrp="1"/>
          </p:cNvSpPr>
          <p:nvPr>
            <p:ph type="sldImg"/>
          </p:nvPr>
        </p:nvSpPr>
        <p:spPr>
          <a:xfrm>
            <a:off x="985680" y="741240"/>
            <a:ext cx="4886640" cy="3665520"/>
          </a:xfrm>
          <a:prstGeom prst="rect">
            <a:avLst/>
          </a:prstGeom>
          <a:ln w="0">
            <a:noFill/>
          </a:ln>
        </p:spPr>
      </p:sp>
      <p:sp>
        <p:nvSpPr>
          <p:cNvPr id="70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7E89E-6B24-4550-9A91-3289E71DC0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295" name="PlaceHolder 1"/>
          <p:cNvSpPr>
            <a:spLocks noGrp="1"/>
          </p:cNvSpPr>
          <p:nvPr>
            <p:ph type="sldImg"/>
          </p:nvPr>
        </p:nvSpPr>
        <p:spPr>
          <a:xfrm>
            <a:off x="985680" y="733320"/>
            <a:ext cx="4886640" cy="3665520"/>
          </a:xfrm>
          <a:prstGeom prst="rect">
            <a:avLst/>
          </a:prstGeom>
          <a:ln w="0">
            <a:noFill/>
          </a:ln>
        </p:spPr>
      </p:sp>
      <p:sp>
        <p:nvSpPr>
          <p:cNvPr id="729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046F1-95AD-42D2-B149-44133F01B48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4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E8BC7-CB7E-41CB-8D2D-58C7823F59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8" name="PlaceHolder 1"/>
          <p:cNvSpPr>
            <a:spLocks noGrp="1"/>
          </p:cNvSpPr>
          <p:nvPr>
            <p:ph type="sldImg"/>
          </p:nvPr>
        </p:nvSpPr>
        <p:spPr>
          <a:xfrm>
            <a:off x="985680" y="741240"/>
            <a:ext cx="4886640" cy="3665520"/>
          </a:xfrm>
          <a:prstGeom prst="rect">
            <a:avLst/>
          </a:prstGeom>
          <a:ln w="0">
            <a:noFill/>
          </a:ln>
        </p:spPr>
      </p:sp>
      <p:sp>
        <p:nvSpPr>
          <p:cNvPr id="7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0CE44-E5E4-4451-BF9B-BD282D3797F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05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83D9D-8643-46D6-96CF-7278E8A6ED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52" name="PlaceHolder 1"/>
          <p:cNvSpPr>
            <a:spLocks noGrp="1"/>
          </p:cNvSpPr>
          <p:nvPr>
            <p:ph type="sldImg"/>
          </p:nvPr>
        </p:nvSpPr>
        <p:spPr>
          <a:xfrm>
            <a:off x="985680" y="741240"/>
            <a:ext cx="4886640" cy="3665520"/>
          </a:xfrm>
          <a:prstGeom prst="rect">
            <a:avLst/>
          </a:prstGeom>
          <a:ln w="0">
            <a:noFill/>
          </a:ln>
        </p:spPr>
      </p:sp>
      <p:sp>
        <p:nvSpPr>
          <p:cNvPr id="7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4F016-6A50-4AFC-A0C6-202599CA0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FA967FE-C6A9-48AE-9D0C-815178AD55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CE3170F-7A59-41E4-9E74-915A44203A62}"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F2A55F52-0CCC-4EA0-A0F3-C26D7F284969}"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76F94C43-4443-4F74-96E0-48DE5E59ABD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C97118A6-E743-439C-BB7D-AF332761D992}"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2F41990A-B5B4-475D-A543-A1A20165495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2131D33-670B-46E7-9593-BF8A6EA29B04}"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D9701AD3-1FB5-4D1F-A1E1-FC2770F5CB36}"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78574296-DE24-4776-892A-AE346A5EE74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F8717207-BCF3-4FA1-86F3-7EABBA1DD10D}"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799AA24B-34D9-434D-A7EC-2F054C8F3A2A}"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FBCAE68F-1A77-445B-9FA0-33F54AB569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E2B0A83-C6F8-4F2D-96DA-49DA4674A016}"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DC673292-C302-4C7D-8969-24A1A40CD9F6}"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1C200947-6A14-44C5-86CF-ABFCD5CD5D2E}"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62D717E9-1EFB-4E98-93B3-726624C1BB80}"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86A3102F-09BA-4C10-AA84-72966230BCF9}"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B4E2BB4B-9B89-4651-835B-1923C1F5627C}"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87BB4C40-AAD4-4089-AE78-0D04B144C9A1}"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676F3C8-8FC8-489E-B40C-6BD59F0AD6EB}"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FA36C9C-328C-44E0-A4E0-530167DE9777}"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5C7AEF69-C81F-4F92-86C8-A87E31BFEE81}"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6C630BA3-2588-4704-A56F-05C17C6D7F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1B58006-C3AA-40A9-BC13-099FA2B68D74}"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2913D66D-F63C-486A-86E3-A2344F0A8A2B}"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FA862AC0-AC4F-4BEC-A18E-280FCE6A0DD5}"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85E90A28-0A7D-41E1-B0C0-1ADA7E0BD9DD}"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CD734500-D34F-4D41-8B1C-246272F34EB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E46A2288-F781-4D47-A402-E2122FDDCCD9}"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2C132DFF-B88B-475A-8139-FF2C21D629B0}"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071B6DD4-0062-42D0-898C-149E942D93DB}"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996C91C-31D2-429B-B204-954921797E54}"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720E016-B83A-43CF-9FBA-C3ABC188885A}"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C392D3F1-058E-45BC-ADED-E7CD265F2A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3E9C2EA-15AF-4615-B993-F1E8909CC3B2}"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2CD2678A-B24B-430D-8301-81562220ACCE}"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0EEF3C89-BCA9-42AB-8377-F8EF7D292B41}"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BF8EBC84-3F9D-4FCA-8CE0-5E9722C729A1}"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2FE54DC8-4B45-4D6E-9B52-794F9F999F03}"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A7EC1BE9-2008-4E79-9866-9DBDF922CC74}"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8D95435B-1267-42A2-936A-B61F3A855F25}"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A386C205-298F-47D8-819E-711EA29A41A2}"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C9D88BD5-5DC7-482E-AF6B-87CD904C641C}"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B9C16FD8-8E21-4C3D-8D32-D751E8E522EA}"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8916063-B574-46D8-AE40-052F65B241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7EE35C1-D762-41D9-81A8-B2C7AC6BF19A}"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6A1628EC-5C33-4185-B358-4E7AD7D9C75A}"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28C0BE35-7A1E-42B4-994F-2935F4EBEE4C}"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C955A75-A2B4-4862-B639-147231FB2CA9}"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C858B193-02BB-4B3D-B483-A2CA52957CCD}"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08452FE3-4BBF-44D5-83B6-55A759DEA115}"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8002179C-E147-4F2D-B4D1-FACA28DA7292}"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7BAA1B8-48F0-47FA-A073-16C747FF7656}"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669A33BC-D516-4686-B508-86AEEFA537E3}"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8A8B45CF-06B7-41AA-B642-2EDAFA822E4B}"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178A623F-1A2F-42C9-AC9D-035AB30A8E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ABB5DEE-359B-4637-8F33-6695F74A62E2}"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BDF42090-FEFA-4BE3-8C20-3B0C8A801B8A}"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86FA61A5-3368-486A-8254-0E19A375E785}"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A9A7B7B4-8A6C-4ADA-B69A-24348B590867}"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6C3B899D-64B8-4396-8C8D-2528AB1A8E55}"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B34F5BBF-628C-4C24-9412-7B0BB7F78C75}"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876F8BB5-BDDC-410A-BD42-1220589254FB}"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DAFEA061-C5A7-4754-8054-2B19EF36B901}"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6BEFD675-4EEA-4703-8712-97419C3DC0DF}"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FE2DCA26-EB90-45DC-9734-BB6DF972D012}"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DF8A15CE-01CF-4AF4-81C8-E0F3D22222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93E2BF7-7609-4C1E-B058-940604622934}"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F8E2C566-EBBD-4632-996F-91D0D45F503B}"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AC4962FA-9C6A-42A5-B655-67C648A82B3D}"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5224902A-9191-4F74-A567-056302601329}"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DFFC4D7-EF55-4BA2-9260-2CCB65E62239}"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6FDC7CB-C172-4E3C-97EF-7C004A32734A}"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39F84E94-A19F-4FE9-BE52-3292EDE59D61}"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C0B4D52C-FCEC-494C-9965-F9993B9F7AEC}"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7004C44D-A257-4489-B1B5-D684763D9E07}"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E667F994-92BE-42E3-86F2-DAE6B528B4A8}"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EF04230F-3A6D-4546-AE12-C5FF37A42A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DF6B150-6174-4FE6-8E3C-E6801D53A14A}"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9C6C4C9B-BFAD-4290-B3BE-88042AD8D083}"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42F7B526-CA79-46E3-945E-7D66C5659ADE}"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84001770-09B2-4BE0-A67C-DC6EF9B84FA3}"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2B92FE42-A954-4D13-9423-6DEEA87BA533}"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90AB8D41-0253-4A86-BBCE-907F75F086E5}"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D3977019-F60C-418F-BE0A-5215F041B8C8}"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A5B6C266-1D5E-4D00-9D0E-FDD1B1A1B565}"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B8589A4B-B602-4E2F-9141-4B130728A67B}"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314B8AE0-C9DE-46EB-B3ED-6885CB6AC76E}"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FA200D14-D87C-41A1-909E-1E113B7EDD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2F77B4B-C403-4397-970A-E6C55FD32F24}"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8A86D7AC-B473-40E4-8A3B-F0835B87E5FB}"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9463A0D4-C1F5-45A9-A9FC-CB87A01A41BD}"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E78683B0-A6EF-4951-A164-B96872A7500D}"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36E65F62-6507-4AB6-A2BE-CF7C0462B861}"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192F1690-615E-42E1-96A4-628406F74EAE}"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5CA30825-4BDE-4B76-B4A5-1E4A10280BC0}"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DC01A608-853F-4736-AED4-61FB7AD53E36}"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7EF3F64F-03C4-4E7C-B433-AEAF451EAF26}"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505B401-8802-4374-A518-2B21EF43744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E0DDB4F5-A10A-412E-8D83-5AE8AE337D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9D69A1-DA8B-4288-8009-7F7C97CE3C61}"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E7A12C39-80A6-46E9-8546-A6107D273D59}"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0AF3E856-5FB3-43B4-8665-F9CB274095BE}"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41672F6A-4226-4AC4-8F12-484A3CE7BA5F}"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D67ED562-D52D-4C8F-A876-5F1E61E6E52D}"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C8F24A92-2B34-4F69-9D61-BBA625FAE449}"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1563A4CC-E215-46FD-B3CF-D09BE70D3026}"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177D0742-EBAC-4059-B199-8E14B18A9E28}"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CFE2F9B5-8D5E-4EC5-86CA-3C551C2E89EF}"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0E24BDFE-EE62-4D3F-AC79-EDE3B92CAF9E}"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C0C41179-1EB2-4F76-BED7-A9E7ADDAA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0353C14-6BE0-41AC-A292-51938E273B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2647BEA-217D-4C82-8EF7-4D2A2AD5E8BB}"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312586DA-4285-4FEB-A4BF-BFB5139FFD8A}"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079F900-89DA-478F-8ED6-8EFB2A598CC5}"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5A8593B9-F387-4F36-912E-C91AEB5BEBA4}"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B182905E-F81C-48C0-8D9C-B264E4A4A27E}"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AB04DB29-5426-4767-A0F4-340D63F5EF28}"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5066E59B-A25C-4EB8-9D94-30FD9753E8D8}"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B9F2073-260B-49F6-B200-21E3FE11E75E}"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501CFD8F-1814-43BB-9D09-3EE63B0C4301}"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9657ECBE-FC66-433B-A3FF-788A50C8776A}"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253E7034-461E-4031-A64F-CF635D982F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3C23DEE-B552-438E-A4B0-E088DC811C92}"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577FA0AA-4D8A-4FE3-A58E-A9CAE9A1C8B7}"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320DBE66-5DDA-4DEB-BC88-52A71CB54DB7}"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06FEC58D-6833-4425-AA39-EC5221F530BA}"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877F965F-44A5-4F13-A6C0-94B78B1B3F03}"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F58DB424-9B4F-4E4A-AEE6-C4C9F6C881B6}"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28946543-8A7D-4A6D-93D3-2C1229646148}"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9CDF32CD-686A-407F-93F3-3ED02591224B}"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4E683318-B53F-4244-92B4-489760726B0B}"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95E622FB-80F2-43F0-B3AD-E0A05FE0A28D}"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C7A98B61-BFC3-4739-B384-5249FF5EB0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5C2CA3E-F1D9-45D7-BE61-4BCD5A11FFE1}"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04343379-CCAE-4A24-AD37-A7C8991235A0}"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DC1FA533-8C1D-4EC0-84B0-CDD2DF9BA52B}"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EAF627A2-A947-4EFE-930D-A0D38F251BD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B2FC0A5-3D87-4703-8703-56515A433CEB}"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996FB780-E261-4602-B87E-8447D2AC85AE}"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2025BF8-413F-4D94-98B1-BFF08AEAA2F0}"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F24C97F4-17B7-4D88-9EA2-BFD5AE6DCE95}"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6600E268-A2EE-4820-8801-5FF7F3D5DCFD}"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76D06841-4D1B-4AD8-B041-9C5E19CAF9B0}"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31412378-4831-498B-8405-A342E0C778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ABFD26A-4A84-4493-B0B8-B31F6FEB9D34}"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6CF14717-CBFE-4138-A064-8DE5BF3A7CDC}"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BBFC4FCF-A4EA-4629-9E78-2FA6B70C2C21}"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E9706A64-DBE6-4994-96B3-BA7ABCC9367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6F6F88AC-E781-443A-AC19-96CCEA4742FC}"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DF84F485-B2E8-46E6-8BCE-F74163C058C3}"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F3B2E56D-760C-4965-B7F3-E6C32E60F907}"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4D8919D5-A762-4336-83E7-4404EDB5F34B}"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6A54E99F-A477-4D4C-ACD5-CBACF574FB29}"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FD782DED-A3D9-4475-8E0A-74431DC238D6}"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B58F4375-15F5-473F-81D2-7D61CD1286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0F0B473-9145-468A-9075-24BC2E1FA132}"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08ED24A3-C992-4317-A6AD-DED0884170A6}"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464EEA2A-570E-4889-AB11-61D44B05AF0F}"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AA26C770-AB2B-4AE9-BE52-5E095E5470A7}"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6982B77-032A-4D6D-8ABB-DF7FCF308397}"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FD4988E6-BD36-4ACE-B0CD-0C8B6E3E1E65}"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23ACD3EB-1B0C-4B4F-B096-728CB3F8BAAE}"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18E9FFE3-663E-445E-A8E4-2DA6BE009D63}"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BC8B7B71-6513-43D8-9AF7-4E4B34C2F02F}"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D99AB6F2-9DC7-41BF-99C3-804C7A181787}"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C492DF50-AE38-4AA9-98F7-B284F772F0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ADB4D06-DB3C-4476-BDCD-26C4A610B751}"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77AB992E-CE56-49CC-8256-000988A3F174}"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62A69B4F-0A76-424D-9986-3CCD24577CD4}"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CBFA8CA5-8C1C-41CD-93B7-504B760BCB14}"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3473AED8-A319-4359-B04F-476536081F0D}"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07DA17BF-9ADE-4FC0-AB77-DB38ECC6747D}"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52E7E8C9-8E08-4929-8BAB-1FA5BAFCCCDD}"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6F5D659B-B250-4227-8CD8-AFFF8698C180}"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E41AFFA3-4F47-43D8-8D10-45FEEA352D6A}"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5DDD5330-7460-4C5E-850A-8F7DFADA26A7}"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467209C-EB1D-4DB9-845E-A6AAECEA87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D9F4088-95B3-4651-A5C7-536C0B410A54}"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C1833BDF-BB93-48AF-9136-281415CF5F50}"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1AE5ECD7-0645-4AF1-BA3B-BEBBE866C716}"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A64CCCFD-66AB-4397-A5F4-A70914225188}"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0F684C57-F01C-4C6D-9258-4CB1319BA1FD}"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6A260799-D7E7-42C8-88A2-D1D16643F38B}"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3DB22461-CC61-45BF-BD4A-D64219C172CC}"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567719D6-E553-46F0-B687-95257AE2CAE7}"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E9C346DA-ADCE-4F62-B45D-7D8559C8A4FF}"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E88B8D97-0A59-4EBC-9941-86B56306C89F}"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204434C5-4215-4CD5-A49F-67A1D54867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7D36252-6F4C-465C-B48A-3EE7B375D707}"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263C43CE-8BC6-445A-B47E-56D899489D9E}"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A5FC6978-C52B-4C05-BF59-FD43FCE59ED3}"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E805EB3-D973-466F-BC27-9975B145E1C2}"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08ABFB22-D5C8-44B1-ACDB-431574DB6877}"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A4399622-72D4-446B-A40F-9768FDBF66FB}"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CB7F0A62-CB5F-4360-8D38-1B377EBD9EC5}"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41D7DAC7-6760-4433-B07C-3C3937C764B8}"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277463D7-CFBC-4A94-A1A4-66DCD7020420}"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3E69B35D-8342-4D1B-955D-296444A56AEF}"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EC806A0D-6930-4F6F-9D7E-8807CC6CB1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824F830-4EBC-485E-A707-2A9B07DAC068}"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F89BDFDD-3951-4D56-8539-478AE02DC032}"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F9536859-2780-43E1-B97F-7690A01A00F6}"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6DFE8E19-EE34-47E7-AB52-22564294028C}"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2A0372B-17A7-4F64-9B8D-2AE0C803ED3F}"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B11F218A-FD10-4964-8431-BDBBCB91AE62}"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185CC23E-22AA-43A3-BF9E-EC1E2D8712E3}"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D222214B-C2E0-45E5-95FC-84877FFE6E3D}"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DA3D37DA-DC40-4C07-A901-E500844D3969}"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DEDB4F93-BA4F-4DCF-A0FD-E65711646ECB}"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D429DFD0-DFAB-4D48-B27D-ABECCB5270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284FDE7-CC42-4075-91DB-6145C1125C22}"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484EAA2-B64A-4C37-AF82-943C2FADE8C0}"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1B9F85B8-DF05-48D7-A568-0A0713A6FFC2}"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8E5D3C92-F6DE-4032-9719-CC208F426FF4}"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62E4370A-531A-486F-BDB4-DD15074FE929}"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1D12F699-0D35-46BD-82FB-47E44F1E8699}"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07E52E1-AE62-4F7F-A9B3-5177D1B2D68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181C4D6E-C512-4DB0-BA23-1322466FD345}"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16EBF4F-6136-4DD9-A5C8-1B8C1755E884}"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D79DCE52-31BF-4F27-8502-388A23C69AD1}"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0AABE611-5D8F-4CEF-BEEC-95D28704F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01AFCAC-AF68-4FD5-BD38-C9E44B75B7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795C3F4-1745-4FB9-B525-F8EF9A0E8A11}"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0024D11F-9F0E-46DB-BC23-0F8673282CB5}"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6A0FABB6-08AE-402A-BD4C-64EE70A3DA65}"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9DC98A0F-4829-4548-B82D-F715F0CEDD00}"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6D13DE0A-4F8D-4085-A468-00AF886633C2}"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61597356-C3B3-4F01-89FC-8A217F3ADB6E}"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C4896161-D351-4FA4-820B-E3AC95DCD692}"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6D45BB2D-B269-42C7-B373-360D88CEE0E8}"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680D3593-6F5F-4FB3-98EA-495048875F36}"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1EB79C62-50CB-4FA1-9769-1E679C8B142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9367EDA8-B60F-435A-9B9C-6A5D1D11A14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09BED9A-E362-4289-A3D9-57215F0274F5}"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C1617565-FB1C-477A-81A0-9EA2599B5517}"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DEFFDEAE-2277-46A9-AC51-3B8FB6DE59D5}"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F49C1EBA-0769-4DFD-A621-375492245188}"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C5A920B6-B011-4EE2-BD16-3464186B50B7}"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4E6AFD67-22CD-4B71-A042-0CC423CF7B91}"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A8EF98C8-352C-46A1-99CD-B2902302A250}"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7D40F331-8958-4576-9700-12F4B934BF7F}"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F44F4059-CD05-4EA1-8DA9-46929CCAD693}"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4A541B49-BFBC-4D76-9FB3-ADCE0F1E7B45}"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5ED4E315-C863-4AA3-9A59-64AB1C5A06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A5EBF0D-0F00-466E-B017-8C90AB29895E}"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0E288B00-17CD-4110-A710-27726958BBCA}"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2586CD4-AB60-4F8D-8862-F557C52798B7}"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4C1F99A8-4E95-4B77-A416-0D4E0DE7B29A}"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4F4C36C0-9C0B-4626-A9C1-B2AB903BD17E}"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2A07856-44E6-4B4F-BCED-60DD52579B73}"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2B4E1C8B-AE11-4603-96BB-44B823E03336}"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8B27F2E8-AE73-486C-B16A-2DCAE19CDE2B}"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99A44FEC-0263-4BA2-9FD2-C8A2A598D917}"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EF3A059B-EAD5-430E-8A03-DA4BC6455D55}"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404E6DEE-7235-4E53-8C04-B3FB4C4C2F0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3839D3C-CF0D-4019-83B8-5160522A1EEC}"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6AAB255D-93C5-4B14-9648-E5459AEA5735}"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010A060B-AAEC-47A6-830B-43AFF47D5E93}"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46335871-2529-427F-A3BA-62BE2F71A5D4}"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D9DC52B-4B6E-431B-9566-0952EB6414BC}"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7CEF7E6B-760F-45AB-98DA-7DA9A66B7AB3}"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7C258361-0030-45A7-ADBC-EEB97B94CC44}"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BA28D17D-5693-490D-A8BF-28AADC8B8D25}"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A6107903-3B5B-49EE-842D-445FC95E2EF6}"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3F6A350A-EF09-41E3-B200-F91C0DD7E3FE}"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850510CB-3D1D-4573-9A5E-377A46F720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3657204-57E6-4BF3-8786-ACDE3A8B753E}"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0374C915-3CBF-447B-A330-C221E0DC2F8D}"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A4AB6031-BB7D-41C4-B20C-DBF9E35487A8}"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EC27F141-66E3-491F-A1E2-8136C9482F94}"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C034F61-6728-42EA-8EBC-D2F4B042AF17}"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3978D4BD-4006-4C5D-B3FC-EE734046096E}"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45640B4C-292C-4FE1-9532-6E2DA84F2FBA}"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6B3B8644-54AF-4E09-ADE6-1D82F6BCED12}"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20A5CFCF-215F-482C-A9C1-174EF9C086E7}"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833E06BA-E0A5-4F0C-BAD4-48DA054C013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922600EA-B7B1-43F2-B306-B2C2D1F2B2E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84DD83B-36AD-4930-A69D-75C288F4DD09}"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E63C8A04-5542-477B-A0DF-5A1CF39FE939}"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A0C5CBFF-A326-42B3-9D9C-5700C08680D7}"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1B284BD3-0EA0-4C57-8D8D-19F58CD4E07E}"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9EF2BB04-6806-4D06-9832-802646128BA8}"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E08FA218-0F6B-48A7-8948-18514EAC967B}"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0917F2E-EF08-4727-8776-517B52AE6C80}"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C6B81F7C-855D-44ED-AFBF-7C8EAC3C25C3}"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09CF4F7F-BC0C-451E-B50C-5F433437F3EC}"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700569EE-02A2-418B-8D48-8CC94C0AF098}"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BE1C62AC-7CB8-4273-85E1-A14F598CCD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9B3690D-F5CD-4243-A2D8-57E9DE928450}"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20C7BF67-5A2B-4F36-9B83-66826BC0650C}"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2481246A-C023-4CBA-B321-2C8CB994D675}"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B3FDBF23-DFAC-4DF5-887A-1645AEE91F5B}"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22CF6D33-6162-44BB-A1A6-87E89D0D8704}"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0AFD73A3-FF4C-4307-A9F0-13ECF7D3AEBA}"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46C63EB0-09FC-494B-B227-4F980550C9A6}"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9E5BBAEF-7665-46B2-A7FA-ABD1940F98A2}"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11FFAEA6-3A8C-4CE4-B813-C66EBEC79422}"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F13B523C-8121-4C70-A9F7-7CDEFF43944B}"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DE8FE108-3D81-469D-BC02-EDC74032C1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7D72E3C-748A-442B-9ADF-CAB349405265}"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55AC895-25D9-4D30-BF33-096721A130BB}"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95FF0658-7D21-4CA8-83F3-472334D2FA3A}"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FBE79843-D3CC-4364-9A9F-996CA11BEB7C}"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D63C6552-1A08-4ECB-A5DD-5C8CD6DE99D5}"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905C618F-B1A5-4F75-AC4F-9A9057F6A643}"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15891B1F-D6E1-4CD6-B1D6-9863A26ED44B}"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71D63A98-58A4-45DA-BCC0-621AD99C6A91}"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9944C6BB-CA27-4B7F-A0F9-FC4E13FB36B8}"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E2C472D8-9848-4F10-8E99-3A5A65D320EF}"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C08820AD-0575-49D1-A014-80CDA9E8CE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80B0015-3A6F-4588-B918-22CB81923B25}"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59BC3E76-AF3A-4B7E-80F2-7605C2111B74}"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EB4C1A60-0E23-4130-AADF-F01581026DBD}"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DB258BC7-F48C-40E0-81DD-BA45D305ECED}"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B0F16932-4BE0-470C-B6A6-FE3CEFAA69B3}"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F5F55D1F-F131-42DF-9A1D-FBD3B650C963}"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DF1FB918-E291-4FC0-A642-AC048098AF43}"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16D56D21-4663-48E8-8ADE-1086E48379F6}"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DC1DC16B-DB6B-494C-A286-A97E94526F53}"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6CA2CE0D-043C-4697-AAA2-78607A4062C8}"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267E4E16-E876-4897-AECC-F578E00CCD9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F6BAD14-AC56-45A9-B506-488616F188FB}"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95FEE31F-2E62-43A2-9150-5653EEB450DC}"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37DA3165-7BD5-4C98-B33E-C50642E4DFDA}"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8548CAB-802A-4A47-B920-EC30B0054226}"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9174AC91-05AB-440B-AB8E-C14E9F1DF22C}"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1DD796CC-82FB-4C94-9CD3-3A7C29ACFAED}"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ADE9F969-96C3-4809-A206-DEB31F8BFCB8}"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EE367CB3-17A3-4742-B62B-68A4B1A3904B}"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3D7989BA-21FD-4365-A062-FA6C3D9E441D}"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76F2F116-4ED0-4131-BD50-3C6B6057F135}"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96C12D3A-1C32-4811-A664-FD141801A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A96B02-BEF5-4A4B-9464-5B1F5D884F5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48246E7-E019-4D34-A25C-4C4702854C91}"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FF52BCF-A142-40EB-BD1B-6BB8DBBD500D}"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7EA70697-34B3-47DB-AEF1-E6A6300FF53C}"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EAF9997D-0B49-468D-A77B-A6AE5F7B6BD7}"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06F8497-B43F-4545-A3B4-066B3C8CDA48}"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093F6894-3605-484B-8CAC-6A8892A2F322}"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2C889495-9B56-4646-81AE-F2D9262CD16D}"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89B30D58-92BC-4293-B3A0-C1A093DF5451}"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11408456-A892-45F5-9E3D-A3B7F603C3B8}"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CD232580-B9BE-493F-B87D-771B9A2A07E0}"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1E94FEEF-1F21-4831-9B46-B936885F1C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01FAFE1-C3D2-45C8-ADE2-55C33CC35291}"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8734CDFC-329A-46AA-A6AE-97E10F3D246E}"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C1DE6175-C2A2-4A79-97DB-0EDF98917439}"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FF81D82E-5D1E-4212-8B96-E1E1F8B2A55B}"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FDC8E467-DF65-4BEA-82FF-2CECF20A106E}"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1DBE3602-46E5-4EFB-B0A7-299B589A169E}"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FC37E3B7-5327-4D3D-AF0B-A90142C70C0A}"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5D9467B8-6EB6-4736-9BBF-4B3F2365F04A}"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E5778725-53AE-4CEA-87DF-526588D12BFE}"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2341802C-C5A4-452A-97F3-8AA3799C525B}"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D034BB14-F00E-49ED-B034-9796DF5EB1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ED29B97-AC05-426A-994F-F2A82F42A47C}"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5DEB707C-8CCD-4FD4-9A5A-1D8177F3AEDC}"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95429B1D-6FC3-4441-9DB7-55AC0EF0D998}"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69BE8F48-BC12-42FA-9E64-31879D53F55A}"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D3F9996F-B3B8-4A56-A623-8E21E5D9FAED}"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CA9D196F-6012-4391-A2AB-47CD3BFAC56E}"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B4255A8F-308F-4E2A-BB95-C379A8C52BA3}"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38A12B6A-D3D5-40A8-8BE4-CC188B78FC7B}"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BCC7F14E-F458-4E6F-A14A-688FB0EBA045}"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1870A993-AA49-4D3B-A46E-4D5ADFEA0480}"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9587DABE-3C18-478C-B342-70A2DAB807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AFCD805-1F2B-413F-BAB3-26391E000F04}"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68ED9C20-7BCC-4E13-9067-AE7F0F13B46D}"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8C7399A6-70B2-4E0E-A081-1950E90DC300}"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9E6F821E-0BE6-4CB2-921E-3083EF584F2B}"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CC798E4A-F4BF-4BF9-876A-703E6D12D968}"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E64F2F8E-2E38-41C3-AF80-2FF2D0401201}"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0D99C314-65AC-4DE9-A7C6-356913D174BD}"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46532A1-ED24-42D0-9AE3-8748B5D1FCEC}"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08C34861-F4B2-4F03-8257-1496FCF8233D}"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EF8E6E9C-AD32-44BD-A9DE-A4841D3B7C1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4DD551A-7AE8-4930-A84D-2E973DADEF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715CC76-2FD3-4F42-BC49-FAE8939BD5E3}"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28BC9BE-5F35-4765-9D82-014D359E1357}"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10569C00-7591-47A0-8A44-4D05DD289C2C}"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F864DBE7-4AD2-4118-8A2C-5398C5BACE86}"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1388BE73-0AAC-4AF8-A665-0DDB1186803C}"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057221A4-A412-41AC-87FD-637BA6EB5E7D}"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0840ED62-E8C0-4CD9-95C7-587FA596ED7D}"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698706FF-5E58-409D-A989-FB14E046A1D6}"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2C4943DA-1218-4742-8B28-10906636DC51}"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DEEE143B-3577-4430-B484-3B427323776D}"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D06CD5BF-B120-4A11-B69A-9D30318AC4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64578AA-AC86-4BC1-AC0C-E036EF7CFE34}"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DB104B11-8478-4DAF-B427-56726C178900}"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7DA722A-4AE0-42A5-84AA-A62E823130DA}"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6840DAE9-1820-44DA-ADF4-DD792660CA94}"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3718F3C3-25BD-4309-BE67-87717846FFDC}"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15A159E0-F9A0-46D2-A6FE-B99D781728D6}"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D4299AB5-56A1-4656-8270-F3D751F4E331}"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E3D90872-5C45-4E31-A76E-B6A5D07E09D6}"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56606C9E-0FE5-4874-B328-7177514C9C56}"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32F4A374-73FC-4524-9E73-FA2177C7EABF}"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9FD58CC0-58E5-439E-A13C-8C8ECAF404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6D73423-BF01-4BEF-8915-D17CC4AD5756}"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1E8C14EE-CF22-4502-A269-798B7A3A8C92}"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CD597743-2C83-4935-97C1-18C65DE57E7B}"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4CEEEFD6-FAF3-4469-BE64-3AED4CFFB110}"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B7126196-0669-40F0-97EE-4C206BC4FF4C}"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9544EA0-4ADD-49A5-B74D-5CCEFB212E6F}"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3C819A1-5396-42B1-A2B6-BBB3808D3D1C}"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0D87ACF4-9E8C-4B1C-B33F-7415BDD5164A}"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2D981CF6-4CD6-4428-B364-36D84DA180EC}"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E5B43181-4972-4077-A4BA-563E0B3533FE}"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8B3E1732-5303-45CA-8A27-7E320BB9B69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515DBDC-EAE7-4520-B444-6DB98316A706}"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B61F8BD-8E0B-417E-8B92-84ECEC44ABFC}"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61B15B00-6855-4093-BF70-69412D734850}"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F5658E0C-BBB2-4D50-B778-B896AC27A650}"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F1655913-803E-462D-9935-1DE83E8F67A7}"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ED01471F-1301-41DB-B6E6-B8ADB2AAC5D2}"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2FBB371F-6A6B-457D-9503-076E463121C0}"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5525D47-F46F-4DDE-ADF4-99F77A68B76F}"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ACA84338-D075-4FCC-9637-6328E1F3F6F8}"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230F112D-3FAF-4C34-A7FA-BE15712B548C}"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02AB8B7C-7843-453D-A3F5-47B9795597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7E64172-CCB7-47D3-AAA2-74AE98B0D5A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6F195D53-0772-430D-BCC3-96A516797B0B}"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EE280660-5398-401F-BCFD-C108D4297806}"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87D33C47-8707-4A15-BE8B-E800C87766A3}"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A880264-A281-4EF0-BCC0-C52623B2AEA2}"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B3AE6363-9E73-43D5-9315-DF83F8B2ABC3}"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01C1028C-5756-4CC3-9559-711D40C79E05}"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EECE73F0-8EC5-4280-A7B8-AB60EF58D039}"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60C7775-2ACD-4063-ACC5-495C2C33E7C4}"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4A5947E-1191-468D-96FE-7071A3D42834}"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5F53C9B0-D2F0-45E8-A0CB-DCA34926DB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D73A2E9-1904-4D7D-8FA6-ADB7357A26DB}"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9555AC86-3553-41EF-9D09-22F438A3C710}"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C660EBD7-0E1B-40D0-A0B3-25802BB7ACBB}"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1D2632D5-CF9D-4409-9491-F7CBCA592B5D}"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FA1500C1-E21E-4C73-AA8C-9B5F228CB4F4}"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1AECAE66-71FE-46A3-83D1-5E3480B412B9}"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F7C1C449-5E46-4813-B409-4D1AF0C9C683}"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2159C6E5-F24E-41E7-8BE7-D9FE60A7C751}"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558309D3-E5AF-4C74-92A9-7262FDD21B11}"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BB2B7518-4486-495A-9C73-A4D1916C197C}"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059CF87-6EE6-4C12-B435-314A54C39A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B0834DE-DF3C-4EDC-ABA9-8378FF4BFA5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78B3A46-AEC9-4955-A11D-860F95C0A0F7}"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26A05A03-8FF9-44BA-A7B9-AE6318389AB6}"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9E315FD2-9059-4BE1-9FD7-B0C9899B8D9A}"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6A35AC6-A81E-4DA3-AFA6-38E73CA3ADD9}"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DDE305B4-BD4E-4E71-A497-6B7DA8A825FE}"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1AF68C0F-BEFD-4F23-B040-E8B43135F9BE}"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F1BA6F0B-F045-4844-A2E6-41F1627EFB52}"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F3748245-5FDD-4791-91B8-71902B5CB4CA}"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781E4A55-10FA-4067-AB53-32BA9BFFC0B3}"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248EF3E4-45ED-4EE3-B07E-BA0F3A00996B}"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6641BA9C-FDE8-4053-AEBC-6526719CF6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1268A6-73D8-42DE-BC32-9F3E682934FA}"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BC20C5D3-14F6-4245-BCAD-AC54115D6BDC}"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08A52777-313D-489B-80A3-40FE89B142E4}"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B5F420EF-90ED-464B-8F29-C7AC2CA0EBDB}"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E8561DB1-E493-4050-A994-987DEF70A122}"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777D0905-58D3-4FEA-A542-3DE0ED063B98}"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535F7F10-C494-4C4E-A82F-CBD1559F4C2A}"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E73C0AC8-E42E-4D11-B96B-24D6FC244740}"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2D53D123-12AD-4665-AC00-FFFE74825EE9}"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04A57C78-3DA5-45FF-9696-A6CE1D67F4D3}"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5A9B5F62-A90E-456D-AEB5-7051A4F500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298FDE1-D3C5-487A-A46A-AF8CDBE65FA6}"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183509AE-9F1C-4CB6-90B6-B76EAA530C01}"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04E87ED0-CCE0-487B-9C64-B7E663A211ED}"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9D1A536D-2903-4BB9-9E92-EBE315292A56}"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E5518657-EF38-4FED-9A2A-4EC740177670}"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9400FBE0-7F8B-427E-8F63-3CAD924E69BF}"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70F5A3E9-2CDC-49A2-B1AD-3A539F7068E5}"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75063D5D-C8A2-4A6A-9EB7-3C9D6C8D37D8}"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C345A181-0E3F-4BFB-A492-7656A02DC1C5}"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AA60F12A-A1D7-4082-8759-44B5EC1223B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B05F37DA-C0CC-4058-B89D-794576E8AD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00A2258-6DD7-40ED-B804-99A71E1AFB9A}"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91FAA809-69C1-4702-9747-A10342B4B4A5}"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4EF6F93-74CA-45A1-962E-DE0AE525B1AE}"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A6745242-3AAD-4C9F-A477-A2CE2330CF88}"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0151F7DD-3695-4537-A0FE-357000100934}"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318A8465-D4DA-46D2-A6DF-A3DACBA53DCB}"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17B7C56-E73F-417E-9B8C-CE9653E25C9C}"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56ED2616-580E-43FE-961E-51A0A0284CAE}"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2668BBF9-C015-4DB9-9E77-30BD4777B37B}"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1FEF2AB1-2C57-4EC0-9865-A73FF355CADF}"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A6770804-B217-46CF-80B1-EFE1C63A876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21A3A97-2C9B-4300-823B-A4D8383A190A}"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B5DB69AE-8D08-4871-AC22-BB3A096EB482}"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F02A5F49-C0A2-4FDD-B5FC-58DF1F961181}"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22D0AE70-07B7-4028-A4BC-E86F56CE7E3A}"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705D9FB7-47CE-41CC-A1D8-71FD234C354B}"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BBC554F1-7E2C-4663-B298-F8858C24C2B5}"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96B6C709-F0A0-47B9-8580-BD912E82642A}"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9B58DD13-7BCC-4F58-BBDB-B9B5472F4CEB}"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02CC1AB-469E-43B0-B04B-147162801D68}"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2D28083-7143-441C-9B58-5A19A9263963}"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61224614-24F7-41CD-B464-C5C51B3E7A6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C701032-6197-4743-A687-0D8A2B5C95A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2F2B417D-261B-4CF5-8036-8A62D512D110}"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3EC271B9-E22B-4E7E-AFAB-71DA3C7EE801}"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B78CF370-8F89-4A11-BC45-B766DDDB8D1D}"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82B2DC62-2383-4A0E-B594-4ECB0A1DEF5C}"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029883F9-4221-423E-9AE1-8B1B9D7087EC}"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793EDEE0-43C1-4ECC-9C8A-8DEC4B0892C8}"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17B04B92-9229-44DF-BCB2-0AA085F69C6C}"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2D24EE18-0172-439F-92E5-7DAAC1474CB5}"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5FD7E306-2164-4189-B6C0-C8162C92C267}"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8744B671-83B5-4C11-A0AB-B6938A9B05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FBDBF35-3B4C-4F2F-918B-065E4BF21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DA8B2D3B-22FB-45F4-9301-527E9C5CE4EE}"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D7EF6BB5-B61C-4765-A724-D5FD0DC14A75}"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B500345F-4C46-4BBB-B094-E0E18D2C0148}"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4E75261D-13FA-4BE7-9CBB-09C1309C024B}"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D82E0C82-35B0-4724-A8B3-9D54E048D414}"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347BA12B-3534-4088-A613-9A040E9C8427}"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CD3DA969-B341-4C65-B344-603640E52372}"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C5C84177-7C42-4932-9E8C-027CC1390EF9}"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05989331-FFB8-4D95-8E97-156F6C2A9602}"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3F6D672D-D534-4706-A964-10722FADE67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F626747-523E-4D62-9CD9-40C966654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6162EFD0-A079-4FFF-804B-5901047BFE28}"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C42BF67A-E98C-4927-BB3D-D4E36DCFD849}"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5067A6DC-5088-45B8-BA6E-809B19128431}"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17FA4D3-2625-4433-8C82-B7F6D40CF9EB}"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ECA57A69-0B90-42BB-93D1-E86A6D1A2792}"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27549278-46F3-4471-9031-D3887565FF79}"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862779C2-1FBA-4D91-80D7-F0187D317249}"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E11AB9F4-86AC-4116-AD26-7EA1035C623A}"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69C21250-1088-45E7-B3EC-145BFE128244}"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FE254B5F-1E5F-4DEC-B776-A123430031F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995C2A0-5292-47CD-A582-C171760D4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254E0EB4-0F8F-49F9-96FF-54FF58BD1C37}"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D8AD4F5B-8A0A-4FBB-A163-0BAA0E35DA38}"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CFBF3F63-6D48-44AD-A1BA-B496B26AD127}"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0DFD5F43-2546-4FC3-9962-EF0FC1C014BB}"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EEF3A1B2-5E99-48BA-9925-3D260CF5A71A}"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44B339B8-E059-4291-89DA-7EB7E526861D}"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681AA172-F2C2-46A7-B223-18ED4918C427}"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4EB8F46F-6EAD-4EC7-867C-0A9BA3608408}"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E7665784-C5BC-40AB-B44B-6527955079B3}"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C5E007C8-389C-4D47-98E7-C5F42868019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3085BF1-D27E-44BA-B1CA-37A8CA9245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9FEE772F-930A-400D-B55A-6998F49999CB}"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AAE31C0D-434F-4FD7-9A60-0BABDC78194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1D71ACC0-B68A-48BB-AA8F-C21FAE129340}"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AB59EB4A-447C-405C-ADE7-648ACA51B3A8}"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999543C2-2E57-4D19-AEFD-8B976C32B2B5}"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BCADF47-F8BB-46AA-BC5A-3181F20CF285}"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3BDE98B5-6A3E-431F-80D5-A3D6E1A24BEC}"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96A58334-F63F-4071-B5DD-379CAAB08147}"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D532BA49-5D49-41EC-9292-F81F934D7387}"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4E930DE8-119F-40FA-B416-99C2C35BD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AEA8EC-2EC7-460A-B789-BB677F276AB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605FB44-6308-4180-AA8A-5383003590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E2CACDEA-66E7-41EF-BC11-4F1EBC8022C9}"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A50BF5BB-F4D9-43F6-AA8F-D2B6767396D8}"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D0D09FD4-5FFE-44CA-85BF-CFF65AF8BBC0}"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A0584C9-4EDB-4460-AAFE-A6176989179C}"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C4683AF-717D-4B8D-A6E8-4C95614E64C9}"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3B09602D-E4D4-4ADB-AF98-13639CF1936C}"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886216C0-5163-4E59-8C54-3E12521BF885}"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0ADCAAD3-0C3E-489E-ABC5-1D75EDC1CCFB}"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EA5CFF3E-BD95-4D13-900A-E0E547A5B9D5}"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FDB8651-A690-4216-9BA7-36958B3341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47A9B1E-C6B4-4032-983C-1AA1FCE21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BE9C9BA3-A21D-4D66-93A4-93651CAED622}"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84BC64B0-B74A-43DE-9ACD-94B3A518CFB3}"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8C1D0AC4-A2AD-4CC1-A71E-B117512F0D8A}"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8FAB99C7-C67D-4D59-AD5A-D0626B9E7991}"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DB0D476A-278B-40A3-B926-DB885A8B5D5B}"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3CA70A84-95FF-42D9-BBAA-E3105FA88337}"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081FD72-87AF-42F6-AB52-6C10561272F7}"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D9C52BBB-8361-4A9E-B061-4E8E231F4C94}"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EC0E363C-DC48-4FBD-A4F9-C8A0D46CAE21}"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6964B4B-188A-4AE7-9821-DA955719C1C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CC16BF0-BD42-4D0E-B651-0CB083DCF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FE4ADFF-0A29-445F-A725-EB6439BDBA1B}"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7489CDAE-5970-42A1-85B2-2F6D01AEC851}"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082DCC2C-B4E3-4078-A76E-4D9C3ED0BDCE}"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31794C5D-F036-4A11-ACBA-3785D0FC76ED}"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3A5A0F84-9751-4D56-8AAE-9D4779581E4D}"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D5E63BA1-4651-4D30-A667-C55B3064FF2D}"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0052F35C-B96A-4C9F-A776-0BEAF95FAF5C}"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D8E32E3B-7BBA-400F-8F99-9C2E49BB0D57}"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E438C562-1E00-473F-BC4E-BC119CCAAA52}"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91FFB4A8-B88D-4446-95C4-480BEBFF752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BE996FE-F0EC-44C5-9664-52523B06B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7448FEAE-42F1-46E5-B23E-6557603C28E3}"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5589E01-83A7-44B7-A04D-2BC76B7FE699}"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7561CC4C-96FD-4B30-9A60-97A27A5AD868}"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E4D6AA42-CB51-4AD7-B0CB-8BA772A40DFD}"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15CBF7D0-427A-4709-BBAB-2582AEF3C351}"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924B0811-750D-442F-A14C-41A953732540}"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78025E06-4A37-46A9-A65B-2D2DA77D4DF9}"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0AD63C7D-E3C5-487B-A998-D2D7963CF4B6}"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1123C103-AF03-4D31-A36B-76A19F815BD6}"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A4087BAE-37F8-4A34-936F-84DAD2951EB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DA85EFB-CE3A-4434-B4D2-DD88BA8D3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B031B2A4-0C5F-4836-A9AB-994DCC5DEE68}"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5214A7BF-23AF-40DE-81F7-5A5EBE4B50BE}"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D486B99E-781F-4E4F-80ED-5CD5B4A3D5DF}"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9CE4F0DA-9972-4EAA-89F4-679E9303EDCC}"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7040DEDD-E21E-43B9-8791-9D0773042FCA}"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0DD3D76-2430-4817-8C33-EF85F5E13DC7}"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4E7B6CDD-29FF-4417-8081-C98BA0174499}"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445B25DB-F12C-45CC-A123-DA4659CF3850}"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54A14777-DE11-476C-AFED-74D1CA28B674}"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CE75B5D6-15B9-4C9B-9674-69DAD7FB162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D75DF15-83B3-4A9A-B1EA-3658117B1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1ED39913-A109-4AF2-BC86-CB90B15A7C30}"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02AC8BAD-C434-411F-83E5-7638B5F118C6}"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7D710485-EBEE-46B0-A80D-1E90DF2EB65E}"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1492BC04-A29E-41E8-A694-3EDD5635239E}"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5194E967-DD67-45E4-97FD-F39FDE521CF1}"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060E2F7-2BB3-4674-BE22-8BA457592A95}"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071775B6-4824-47BD-B9F1-51B75C2A9D52}"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9A70E74-8478-4641-B657-677B9176FCCB}"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31A3D286-67FA-496C-B026-B9830C51B3BE}"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5085D935-E7B1-4C41-91A8-6459A2E35AA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45DE8C6-F926-4D56-AD3A-E01BAC5E002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C9C7DD7F-2EC3-41A2-A40D-C47EE6246A00}"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A38D2B0F-BBB6-419A-83E8-81EB4B09C96C}"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BA3C2D8E-478B-4A2C-BB17-F7D2268A83E4}"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673D3041-16F3-4BE9-8BDE-BD39023661BC}"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1F63EDE1-3765-4660-BC35-45D0CBD24634}"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EC48415F-1247-4FEB-A2F6-C31710ABCFD1}"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5A013BC5-F750-4623-B0FF-8DE5943A4645}"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B2E25811-4C30-49A3-AAC0-768EDB2B7D43}"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FCE1E44-A9CD-4342-A631-A610EF98388A}"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C393003A-8A88-46B8-A4E4-A103FA4357E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6D1B8B4-FC69-43AF-BC9D-155D293A3C6E}"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2CE359C9-9508-49C5-9B3B-FD45F243C387}"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3DFB8CB7-BC32-4061-9BC4-7763DE629AD6}"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3AF5BE10-6802-486A-845D-D004D04759C0}"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AA0D317D-6CC6-460E-9A51-28C49F87DD66}"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CCBC4203-8A41-48E3-B095-2EAAA08241F0}"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74B23E99-53E6-4985-9FF6-76BD4B742CE6}"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04409918-055D-4C42-B7CB-72244C2C7E1D}"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356C24ED-FA84-45D8-B776-E3EF518E8813}"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BF154158-A7E8-490D-B22A-75D87A3FC9CE}"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F4EA529E-1989-4C7C-8E76-6257635B532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2FE0BCD-7BB7-414C-97C3-CC10CD34FEC2}"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ABF15C01-97B3-43D4-8F06-EA23A1EF5C8A}"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44227CF9-D3F0-439C-986B-7FA3EA1C1850}"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85537DE6-2DE1-4B2D-BEE3-ECDAE25AAE36}"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FEE94D0A-62E8-4191-ABFD-6EF8991384E4}"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B0FD3582-61A7-45D9-A3FB-D84C20E15AF8}"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58719A6B-2C69-47E7-B6AB-C82B3C4BEFF1}"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BECF9055-6246-4CE9-A32F-83F3BE503DE0}"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D0AD9D6B-4256-4E27-8B89-7D8B4F7ED1EA}"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9C75F418-5A95-4512-905A-029C29DFA090}"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84282671-14E5-4689-9B45-E6F5F61377B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E77C4448-DBDD-4718-8AE9-D2001727E190}"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CFD64854-5483-4726-9780-986C42833EF7}"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E7A270E9-F805-4A02-BE70-EC995AB06F04}"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7C41C38A-8BC9-432A-B977-942CE5914114}"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E3D7648D-3E9D-4409-A7A4-7733F3DB3CF6}"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7A11D59C-5D20-48A7-ABAE-1F8C7E33E5A1}"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F7E5413F-0D44-4D33-983E-34875FC31DF8}"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F2374E9D-07E6-4F1F-8955-6D24AE296DE6}"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050FADD4-23B9-4E19-B3FC-F626BDB6650F}"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5F50EA78-3B34-4085-9A40-B93361807487}"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EF8DDAFB-6986-499D-BEBF-494F3AD707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C3D1257-A70E-41AB-B7BE-4AEA83C5A72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A577E1E-5FAD-4065-B3E2-BA3B04841269}"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9F30DB26-674D-4C76-BA63-1D2207FF03B4}"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FCEBB75-B692-4DCF-B278-42E8E2890003}"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3AE22370-9B32-425E-923D-9BB5C69B308A}"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F46413A-46D6-4175-961A-6C4249CC2D7C}"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5A66635-8986-4715-8728-65C822E19A7E}"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EAF65436-8454-479C-8F58-22A3307AD395}"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85662266-E6D5-405E-8150-A64F7CB7EC33}"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4C466099-D05E-4166-B9FB-6CF3D2CE7CBC}"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9EB74910-D241-45DD-AC3D-2CD6C843D450}"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BE743350-D32F-46C2-974B-E9FBEF9353F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0EC27785-4773-410D-A421-CE0873A574E1}"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0338E482-FFFC-483D-879E-CCD82B729D6F}"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46D7E057-01EE-42B2-865A-4AC9B5E47D78}"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8C518CDE-8F53-412F-B721-0B358DDF1FD2}"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5450858B-BBBE-44D9-8137-8902F15C6E9C}"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A2CD16D6-5C46-43C2-A7BA-DBF63D7EFA94}"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B9ACDBD9-1C68-42D4-A6B4-D18F71D446F9}"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781894C-E6BD-4675-97F7-9BC58779E2B2}"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D45CCA4A-D56F-4E25-9A44-78DF341A1BF6}"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78D2FA2F-C491-49A6-B220-2EDE41553C85}"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C4F8B552-A826-484C-B9F4-D874E6E32BA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4F1B31D9-6A0E-413F-B50F-AFECE58BA220}"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4BE001C2-F43B-4064-A601-1AB223DC3CEF}"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0A9DB785-8060-417D-BD0F-26010842517D}"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3CFB913C-C346-40F1-80A6-E4F7742AA9C8}"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62E62AA5-843A-4839-97E9-43E7BB2C42F2}"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6D45963A-27F1-47E4-B780-B73CBC718C9D}"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6DC858BF-04BC-422C-912B-3A434AB1E2D8}"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227F2D0B-3646-4C7D-9E60-DD774567DD2E}"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8CAF0E61-C514-45A5-A43C-04A1D1CF5179}"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E2D088AC-DDB4-42C2-9A72-83E4B42B1459}"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AA298633-F2BE-4D29-98B5-05B31BC3838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9E1E3D87-315C-4A00-9679-AB09E31CE33A}"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0A6D24D2-E12C-4833-B4E3-089CF6AE3B30}"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30E7FD76-8351-4045-92D9-4A6A97841013}"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D88FD5FC-9ADD-4225-BBDB-754E455B0AF7}"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43316D94-2E12-4BC0-9411-97671DDDBA87}"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AC0F4063-142E-472A-96BD-8CD055A1D7A6}"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29C629AC-D777-4495-B241-BBBBB41C0CA6}"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FB8842C2-CC1A-439D-B324-224973128A32}"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BF41A02A-7D23-46E6-9130-0AE9C2F37B02}"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54081E91-9BCF-4DB1-9925-B23E80718AAE}"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E64571F2-4201-4B6D-9DE9-2F88D06737B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F2848BE7-2296-4E37-B56A-77E369EF4F2F}"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4FE3B535-BAB2-4537-B3C1-48F3AC4CA617}"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6654644E-B598-454A-A112-EA46EE245528}"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F66FB50-4D76-4682-9B41-133A2D86B249}"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580C7DD2-829A-43CD-B9CE-4063ACC7E732}"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A040F3AB-8C1B-43F0-9A33-D12B9A61342F}"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8931CEA5-B412-4924-95C1-AEA239F74DF3}"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72A3C961-1190-4CB8-B0D0-54FD4D0A2CE7}"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9CDE3728-5292-438D-A6A4-7A231A0A0A51}"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AC99C5D4-F246-474E-ABA0-A1AD4805AA82}"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585F0E70-3559-44EF-BEDF-61A42DC5D82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1284EA0-4A29-4468-8E08-C4E33C0E15C7}"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E3C0EFA7-998F-496A-A678-2DC1FA8FA7FD}"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03038ECC-7A19-44B2-834D-FF1094DD5A43}"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129898C8-CA0B-4580-B9CC-072F3C224769}"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EE755747-BDE5-43D3-A0C2-BC1A1BCD9D9B}"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9F128E97-C9F6-4A0C-8F44-5B810CBB6E66}"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348C9293-C1FA-4ECD-B60B-6E9D0ADDC560}"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517814A1-C742-41C5-A503-731664B1460F}"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528AFF74-3626-4F31-81A7-F06A7091506B}"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2C61AF35-8A55-4626-B43D-A880E523503C}"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E4143077-9D10-4A04-8DD3-BF44C6C8581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1373B9E-5601-4CC0-86D8-4CE86819D6D2}"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C8C9D14-74FD-4F83-9DA6-F4F7580A0FB9}"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561D496E-5D68-477B-BC0D-C6D53E64A0C3}"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82D8E9FE-6E86-4574-A320-4ACCD5A74F0D}"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6660B3F-D73F-4C17-AE35-92B921F62D08}"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2EABFA59-3EE2-4335-8935-1A5A1F7026FC}"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F2DFB90-7A3B-4147-9751-934DCA42596F}"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867C63EF-ECE0-4770-A72E-D2C1DD4B5562}"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228F0818-A9B0-41FB-B461-586BB3B8249A}"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6C345950-C8F8-4ADF-922F-950F4C3BACA7}"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7878253D-44AE-46A9-9844-4B2DE3D516F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1175F4BC-7FCC-4AB8-AC32-643A3988CD40}"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C8B99ED8-83C3-40F5-B03E-153879199995}"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64EA9686-E955-40EA-A688-B26F63174076}"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E38F40E8-ADC9-4F30-9392-2C1C43C74E7B}"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2515C09C-D882-49DD-A8AF-0DE46328928B}"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94E02226-16EF-47D4-AF80-D935603B7650}"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E614B50D-44D6-4F67-9D70-2A102D9E645F}"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78B89FFE-D4C0-4A22-83B9-C8B43141A99C}"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17605000-43B2-4B76-9F04-4747497D0E73}"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26D5E453-729F-4B8F-ADBC-748896E1CFF1}"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B7E58535-C909-4F15-ABC2-59511814E12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D600AE0D-4438-4B4D-B947-EED51DA3737E}"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BA6C5798-247A-49D2-A519-75B9825DA14E}"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D429D84E-2DC3-4742-8B5C-738086EF6D05}"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06417E80-E203-4C41-A583-B898F0485D5F}"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1D7BC25A-0C94-4602-8B39-702E607E8CDD}"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19E7ECC8-2A51-4236-A547-CC6B0D74C803}"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BB8E88ED-1668-4CF2-A4CC-289C8B1D00D9}"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E3DC6C07-2BA7-4AA6-8204-D3F3F05737FC}"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DEE3AF6-0232-401D-849C-E3F12BA3C44E}"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2D63FBCB-961D-490F-9FEF-9C7B3C4DE390}"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6002D2A9-C414-4EDF-A45E-9FFE2FDCB8B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2FD0C6F-E778-4D78-8A29-B19F59A7EFC4}"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AC3AFF2-BD68-4A8A-85B1-E99D6C6A40FE}"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2BC81CBE-5A29-4487-89EA-AB536D9FC382}"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BF60F0D0-3D1D-47BC-B191-C9E551FB8BC0}"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9C20940F-9408-4B6B-8E64-B92F42BBB03D}"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4ADE10E2-7E26-476B-A502-863EBAEF3AF9}"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07F770F2-9461-43CF-85F5-24CF29551E61}"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12FF0821-29C3-4D92-83AF-E5B45B22C718}"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D7EB657A-5357-4E93-A253-3AC581986341}"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6BEF8943-7D0D-46A8-AE77-B0F1A758971A}"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095017A2-6483-4D2E-BC3B-4F151596D8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06227DA-ED7B-41B9-99CD-0296971FF64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6E778B75-9693-4DB8-BC86-4D21A1252031}"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574F7A97-5333-4CF6-8BC2-BF946201368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4428FCE8-48D9-4F97-887D-11649877D08A}"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3757DBD3-AB28-4A76-9CD2-C4DC165E3F8C}"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B48DA0FC-3ABA-4550-99A1-56B403D7B4B8}"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4632CEA6-5861-483E-8242-4E2E29648A1A}"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B95A9029-E30F-4D83-8D52-A4F11243ADE3}"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9ECCCFD4-FE31-4D28-A3D5-6392EB966819}"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1E4FAAAB-5244-4F96-AC56-F163CEB8C158}"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460C6971-1C84-42A8-B8DA-5202C4F7C6B2}"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97DE031B-9331-469B-ADB0-2D2EAC577D1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36DAF60-311D-464D-B646-CDC3800AE1CF}"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E860E95C-7D26-4629-B908-1E6AE3DD64C5}"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AD18A0E-3FF2-4B0E-A8F6-D00F97FBD053}"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9CC92527-F147-44DE-BB8F-1C5E496D3AB5}"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8B1CCCC7-EE73-476A-A0AC-424A5C4C103B}"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5384FB58-3B3C-4E14-BB61-9F32CD28B3AC}"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EAB88400-B1CE-4AD1-8842-1EB357C5A97F}"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8CB48870-D285-4763-A173-B6176D22B003}"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7791A3C6-8C91-4D2F-94A1-2D7BA3D4CBE0}"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346CE8B0-19CE-48B5-9126-1246473E7F81}"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D6DF512C-74FE-4FA3-8598-523494BF3DC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1EF9A578-06F3-4234-A583-B8AC32495A40}"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3B7CBA06-A4C9-4512-AEB4-8CF4AE967B46}"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7BB3F5C6-DBB5-45D9-B584-CB64E3B83451}"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5C79C383-62E7-4272-9A6D-F45C88777E4F}"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86739DF-590C-45C7-896E-1CCD3C226FA1}"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CF7DC715-DDF1-4855-B8FA-CE50DF6EDF25}"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14F91632-748A-419E-8139-95E90FA2AC8B}"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2424EC9-F30A-4CA0-B361-24EC4E1DB258}"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24FF2274-E865-46FA-97AA-527C519A233D}"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3CB146BF-F0C5-42BA-9210-E2E2265093F2}"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C75A75BE-3699-4664-ABF1-02DE16B7E27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02935CF6-DDE4-4001-8666-4B7D277AF356}"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F4946D30-A84F-43AC-8A53-DB12046020EC}"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FB19EC0D-4723-49FC-BD2F-5AA0375E0A5A}"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85C2077C-B15A-4442-9351-C231865AB737}"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164A32C7-5054-4722-85DA-48C4B83524DE}"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B4AAA09B-915F-4476-B193-4D744191C562}"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1CE28835-49C6-4B57-9809-F7E6C2BD8BFF}"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64D91944-8119-4E84-9E1F-EDDA430B7C66}"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710072F-40AF-4BB1-B4CD-54209B367EF2}"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964E2F58-5822-4625-8F8E-19AD327AA126}"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C30EFB4C-BA83-47A0-AF9D-5E89B621223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45776299-9D71-43EB-805D-5D39465611C3}"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E7D2C931-19CD-45D0-999D-04AD6296BF81}"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9AB0A0C5-1BCE-4707-B22F-CF7906E65152}"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14B6148E-9554-4E06-B214-48C4023A6D3A}"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8E579577-F2EF-4750-AED2-6107D8095E51}"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6544D24A-C3FB-4D8E-AC65-F4C7D292CAC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3A2FFD2B-E03D-4550-804B-289E70B1A2C0}"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3B28C37B-2D0A-4397-AB65-D85D6CC1C5B3}"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94900210-A429-4BD1-A9DF-87F17B08B13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9F701AC8-5712-495D-B858-FCB2688E90E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429DF0BC-0C81-4C51-AE42-D32F300C299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094A4984-3CBA-4085-8151-DB0BCC67C857}"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80CEE2A2-6A74-4BA7-900F-2BEC1138E556}"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D0A91791-3C43-4A03-93BE-39F39FA9D3E5}"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46FA26D1-914D-4159-B0A8-EC3B6769E022}"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5014E7BF-4A93-4CEF-96F2-8F299B5F45F0}"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FE2D2D24-C935-466E-9E22-5C7C62527EB4}"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6ADD25E6-C72B-4E12-9075-E1790DCF509D}"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567EA3FB-724B-43FA-8C1A-C5F5F1DC1DB9}"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87D8253C-2242-4BBC-AB03-09A18F797077}"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8EC408B1-0405-4208-99B6-E0DCF68B7F22}"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BAAFE932-6C00-4ACD-A52D-8EDEF1D30DBD}"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AE94D57-D23B-45D6-9A26-C3816D047F42}"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B45F21B7-264C-4BEB-9C66-B16B25D185B1}"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92ED3CF8-8220-43AB-88E2-D2A7F0B7CFE9}"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AB78DC2E-81BD-4C27-9692-82339A0B70BC}"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3AE6E9E1-B1EE-45CB-BE8A-5332CB09C3F1}"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885D7988-8C88-42C0-9FE8-5E42E77FECA1}"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B0892858-CE14-4FBA-8FC9-74F79099000D}"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26A2B175-9E62-4715-AE56-FCF3B96DC11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32A5217E-BE4A-47B8-8DDE-F4EAFF16299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FB83573C-B24C-40C1-9D88-FB6CEBF5CF1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E916D7D1-E789-4F89-9B1D-D0EAC8E2B0A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05A87856-C22E-4249-9EC8-278E4D0AB092}"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ABBA74E4-A9E1-4867-A316-76168D352D88}"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74CCA998-592B-45F7-8606-8DD7A6D992E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7E64F247-E423-42BD-9027-FC26A54210F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50EB4093-B42D-4A87-833D-E16C0F75EE5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964A7B28-74AF-438F-88D2-96C11E011EB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57B996E4-A8B1-4A20-8189-34E3DBF2CAD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D4CDB90-6E92-4ED8-89AE-FA77E801B7A7}"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8EB127F0-2F3A-4059-848E-1FF58F3A434F}"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739DE22E-BA90-4AA0-9B6F-29EC734BDCED}"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CB6B8A15-43A7-4DB1-AB41-F52D10CE69E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84ECE688-1083-4C45-8BA2-6D22A75B4BA6}"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7E9F14E1-5AAF-48EB-B56E-9066A0084357}"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F2C231A7-5513-42FD-9B1B-7FBCEA9BE272}"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AF9DE594-B629-4803-A450-257F666692DD}"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85A377F8-0519-4A84-8E79-F0BD55A45B6F}"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6436763-9A52-4B47-87AB-CDC25EB8DA1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26C0B0C8-4811-47D9-A060-2546CBF5F36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128BCDA2-E02A-4396-BE7E-6F31B6ABA0E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F9EDF4CF-5E55-4795-B79C-3ACA9E33D71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34735AA8-B011-4AD7-88C6-483988EE0606}"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7593B439-77E0-4366-8382-C186DE53A571}"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BA1D43F5-CBFE-4D1E-8E0C-D7DC6EC12786}"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055B4352-BDFC-4307-AA89-501CFFF4516C}"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8FDFDF6C-A079-4A5B-BA50-0834CD799904}"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43D375A9-9514-4CAC-B1DA-114ABF8F0B6E}"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E541F4AA-AE5B-4614-82FD-6F4A6284AEE1}"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8CB318B0-DDCB-4C13-8EC0-2647E5F61DFA}"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6F255E11-BA11-4552-8C49-E243A96ED5F1}"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A9790A7C-A607-4AA2-9576-E739C28EB87A}"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E6DCDEE-B176-4DFC-9CAF-172ECFB4D013}"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3C7D76D1-1367-4887-B743-E9F95F61256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F7FAF2FC-647F-4192-BD9C-2FA8CBEF377C}"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304E2FB-1EA9-419A-BC46-7EB36BE52F8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D51BF0B-E96F-448A-A40B-A0D552725C91}"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E1942D31-0960-44AB-A2E8-EC065177FA67}"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4D413CBD-DAFB-466F-B6B6-0E381B1ED4DC}"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A5E7C7A1-455B-4330-97E4-154E94CA82A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6AF3808B-EAFD-46C0-A844-FC18C8BE4D2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90221D90-4C6F-43AA-8592-FED15CFD958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24A75932-2B20-4889-A629-73B4543EEBE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24948329-744F-4546-8BBD-F459E45B516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A9080A1C-3AB8-4FDF-AABA-F5D847A7E88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2976EFF1-C824-40FB-8D0F-A00A78D6761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7BFEAF3D-D379-44E5-A725-5C8DF928C5B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DCFE713-82D4-455A-ABBB-4F9B3325D1BC}"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54F1E869-9824-4B79-9D47-098DABF1C34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678A2484-4959-4B29-9BE9-2C7BB16C173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4DDE61C8-2236-4771-8FE4-CAEB58451C80}"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59AF8A72-B99D-40D4-979E-B05169F50267}"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0FDE492-6C17-4E06-B3FA-E4AFDC0D2AD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8288E77F-B320-4ACE-B83A-30F08A95CA9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20C26EE-0336-4451-B4EA-EF7C252919A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0FDE506F-05DC-43A0-BD0C-CACE663DEEBB}"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80E24263-88B6-4800-A9B0-90CA1C54BDD3}"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73AF3614-B66A-4F36-AA5E-A555C0E09FC3}"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3902CF29-2DED-4BA4-B274-7953330BB3FB}"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45D00BA2-2453-47EC-A908-78AC651670BA}"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B7E91ADE-966E-4534-956D-7B675887F8E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A1FDB2B8-4207-48A2-9CB9-2B0CA46125AD}"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7BE37CDF-93B9-40EE-95C3-63BF7BE16824}"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98922039-22C1-4624-967A-549C67FE3134}"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6330FD73-006C-435C-8802-E8A5203083EC}"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63632D82-72C9-4D32-8040-D2BE8F3F4371}"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28F2EE96-D0A3-4D98-9628-66F181A342A9}"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F2F3325D-9E72-4337-8A49-D24861068211}"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03CA93C8-1713-426F-A0A9-AE647000BE83}"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8F66C10-5135-4287-9678-C5092A0B2957}"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8FE24034-4D3C-4CE3-A3F0-FA973FA42013}"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4BADB72-8978-4798-B24F-B9E7ED89858D}"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1E51F1EC-3227-49F1-9BF9-7DDFFFDB57C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6183B4B-1AB2-459B-BE1E-9CE7057AC857}"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C898E4DC-5A23-4AD6-B052-67B4A239B30E}"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9166F78B-9DA7-4F2C-84E1-FC89490235CC}"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D6A3F5EF-BAB7-4048-8898-02AFB8A0EEAE}"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FA4B95B7-25EA-4913-B41A-BD352FFC930A}"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1CDD6D92-D904-4570-8BF8-BA3A14686CEE}"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5EE89038-1CFA-4504-A514-54C85301AC6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A14C11C-5740-4BA9-9ECD-566537B86A6D}"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7D5309D6-4B50-44D8-B6AD-E4E8009491B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B2DAA204-22CC-4371-BBDB-2E7072E8F00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C6E8C239-948B-4FEA-89FD-F703B58BF82C}"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C4A5CD8C-5A18-4EEE-991B-1A4A1ABB87C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51ADDD69-218B-4DAE-AD74-0FB849A224B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406D64C-AFD6-4EBB-98C8-E85C66CAEC7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674A49E-0E47-49F8-8AB4-396F885D32F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358FF4C6-970B-4EE8-804A-03A4A2E4097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8D63E751-B17B-42D5-9F1C-924F2296379B}"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84F016AB-C0C8-4E89-80C7-E460620E5DB5}"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A91FC3C1-9C51-4E20-B40B-7DB5D74A0B44}"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690F1585-62F4-4882-8D15-2E7353A28BFD}"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63269CD2-C6A5-4C27-A922-857ED79CC6F2}"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E1D53B29-CAF3-4B1E-AFBE-169A040E5808}"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3C881DF1-8285-497B-8415-8D83AB2EB812}"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ECC4515E-B66E-4D5F-9B2C-40E65A853EC0}"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534FB76F-DD22-4ECC-B3D7-68D7142A7E75}"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68ECEC0-7D6A-4A8E-A74E-C9C928A8F56B}"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9193C3E0-13EF-4A42-B0FF-7BD98C397447}"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93447956-9705-489A-B420-1150B44C9D4D}"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D38C76F8-6461-49D5-B56E-5CDEAA75BBF4}"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D230039A-7DD6-4558-8137-82442BDB496B}"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2F70DB40-79E9-4468-9D19-6641B379B3EE}"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DD8BBD9D-1E26-4F44-8E5F-4020910B3F37}"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B2964756-15AA-49FC-94E1-4B232B35749E}"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5AFEB22C-F30A-4634-AAB5-D3F4EFB310FC}"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3CB46588-A8E8-4AFE-AFDF-457297F01CE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5CEA8326-1C2A-47BA-96A7-45E381B8E4A6}"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8DE6940C-74E1-4D30-B691-C3B68BF1680C}"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12E4AAD9-BFA9-49E7-82F0-E47EE0AEF8FE}"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F892E50F-BF73-41E1-BD77-4798A2407338}"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3DA9FB12-7359-4F56-A451-49544280A55D}"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1BB2741-47FB-4237-88BC-93DDC044E416}"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8A2F6FF0-86CF-48E2-8025-EE60F7804B14}"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8B035739-FAAC-4BA7-9701-E9A8B56D19F7}"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6985471A-43D6-4169-B327-516E413E0744}"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14993C4-B140-4DE5-B9B4-283EDF919EC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A3E40E0-EADF-431C-B588-721438EF1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2724F5-8C01-46E7-890A-404C578CC3E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17BFB048-C1D7-4D34-9BB9-FBF07706BA9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7CAC6EB7-F7B5-4752-BA52-31789D9445F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73AC1394-4218-47FB-B944-3E2F7689507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DA7304E-B0FB-421B-8C6E-99620F1CDEA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9D8EC947-A8E2-4095-A890-786C09BFB70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165C528B-FE6B-40C8-9FE3-581C4D87EE7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2F6FD9C5-4455-4A6A-A67C-7CB4889A5E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8AA75BE0-6E9C-4E68-9E33-992AEE8791E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2DAAFBDE-5033-432B-8805-6B58F8E805B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69DC4533-6F19-4822-B7F3-698789E94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6E3D1F6-FD30-47EC-8791-CD1EF2CC0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669591-46DD-4EFD-9030-7C5DC96DE57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D93D3C88-26C6-40BB-856C-694A41F0A62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86385693-4F43-479B-8485-1023E355E40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D1154817-6572-45E9-89AF-B42A2E8EDA5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AC3CA17B-5A1B-427E-882D-9021E96DFB8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F64F6446-72FB-4889-A3D1-0B02D961EF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EA30BD9-A665-4B6C-B4C9-B691407F4BD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E6D1B92-EE7B-4859-B447-FDC4C7DA26C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138F569-3D85-49EE-AF58-FECF544A24B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4BE3D243-6DF6-4BC0-A484-2FB3EBFCCB8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15D23D5C-CBFB-4F26-9723-DE419A73BF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ED834AF-DD99-49F8-8068-7E95D3665D9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EE583B74-4B77-4D3C-A33A-76D8BDE3222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59157BD1-8600-4FDA-9857-FB4ADF5D2F0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2F87A01-D418-4FC3-8A05-37CE471F0F5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C819D5C-2393-4494-BD6E-0986D2111CB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0477B0D4-B1CF-4C2A-8260-98D239EC282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C7716F6-E93D-4A18-91AC-D2F890CAEF3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A9013B0F-6615-4AC7-9488-3B46225ACCB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B9BE12F-DB37-4E09-AC98-160EC7F7767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D1791E3-8C2E-4615-89B9-7F29910CD88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76FB6D0C-91F3-4C90-AE50-63B712560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0C41D65-7DA7-463A-A5EA-D0D15376BAA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D738B544-4B81-4E49-8529-2537CAA55F6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29907552-1621-469C-895D-80ACEA5846B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DC7CAC94-7EC4-4895-9F89-14C939AE2F1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9406AC48-1C0B-42BC-83D4-43AABB79051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A0DAE36-4E8B-43BF-94DA-AAA4E657035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4BCF3CC-68CA-4797-8A37-E42689DCB20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9D8E3D27-93B4-43DB-85D2-DFEEBF296DD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891F751F-3E9D-484C-A9CD-F5E2E485766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AC123666-7720-4119-AE02-587813CD1EC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A5F6B37-B4D1-4B00-8B35-551D716989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ABBE44F-B0B6-4B07-9C51-4E21A604BFF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3366A82-19AE-4303-B651-A40C74395AA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0316FA9D-0D43-491E-BAE0-0CF681D6509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8B53409-77C7-49E5-A270-6CE361114DC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4FF96F08-2C29-4328-AE2C-6ECB6E55057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301E777B-9394-4B93-8215-1882BF07432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6FBAE8E-2C35-46C2-A10B-0F567FEB746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FBEFE4CC-B078-4058-83D0-B1E3E815DC0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D486E14-E80E-4839-973C-021847FD494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2488D65B-822C-4180-BEC4-D4DF1B2817A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FA986226-E10C-4E02-AEEA-45BA12D1CF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C0EBD19-B2E2-4555-B9D8-919FA91FA1F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D472FE16-DEA8-49B9-BFD6-48ACAE370B0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4B26B6A-BEC8-4887-848C-380B203D742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5EF53A8-1E81-40BA-A76D-6DF258F78D6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43628DF-F691-4D81-B801-F22A62F4A55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6149A60F-B753-4D0C-95A0-464CDA7F06D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ECC2E9AC-FCD5-4390-BF64-21B641EE49B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752AB306-5369-48CA-89CD-327394CCD6E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20F85F6-C827-49A9-BE1E-96679427B7C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418D7B4-0023-4E17-9883-81A60D54847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639F6F0-F881-48BE-AECB-D41E62D21D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6ADF61-58E4-4572-A87F-869C692C52B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0C01EEE6-352F-4F4B-8C96-14F363E88E7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515A3225-90B1-47E3-A505-9ADB925C67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2076F5BA-EB23-4C77-AEC6-A4D4DD5CA6D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70B06BD-6EA9-4A06-8C28-A1C281421F0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5DC428B9-C9CC-4A1C-9AEF-3DE45060696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E1D5BE0E-9498-41A6-9A77-6995BC646BC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6363B67-A2D3-4D04-95BF-F165DB575A3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51E0B82C-F419-42D7-A5C5-26553E06F93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D65B2FEA-FB0E-463B-9EF7-4E07B9AD839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3A76629-ED45-4271-82B5-2828761AD3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835F55-4FFC-4412-BEE3-70A0CEB13A2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62954266-B807-4647-B6CB-E978266BC37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4C20202-A3F2-453E-B8A6-94612F7C79C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CD5E4FC7-4580-408E-861B-A60A260078B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52E9ACE2-8372-40A2-8757-7492C20B209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BE97CCA0-71CA-4EBD-94B3-4D5E6EC4614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1AF560C-0F4F-45D5-ABBE-C57C952A32F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9EB5AEA7-407C-4CDB-BC05-DD8FBBAE06D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B61BA7B4-643D-4A37-8707-455F8D0C99B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ADB99AAE-2FB0-4317-A7D0-6FE82E54106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39426AFC-F0DF-4C8F-97CC-AB76600C48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EB202B-9F5E-426E-979C-0F0980C6A43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E8CE5CCD-48EF-4827-A0C2-6148BD3790F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310311D7-6AE4-411F-B118-726E63B2FC0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3976425A-6FC3-45BD-A39F-B72E662AD93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F56E2DFA-206C-425D-9502-1C1BBFC4D8B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DD766E0-A731-41A1-A39C-D037C439883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6473AD22-85AE-45AD-A07E-0D10DB19244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74F23860-1577-498C-BEFD-1BBC50449E4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F827815-07B5-4906-B4EF-2A75B434892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5A528F2-3F04-40D0-AB72-59525AF5CF8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AF19A700-1502-44E2-B35E-4605CC1DE5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7758AE2-5F0C-47FC-9374-A5884CEDD05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25B005D-1C07-4261-942F-A1080642C36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510E4E35-2A93-49D3-8989-F2B836DC782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31BB53D-466C-4182-970E-6A173C1EBCB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12796FF1-EE37-41D6-A3D5-E1AAA0AA067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04FEB21-39DA-4F48-B450-7D76820DBE3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3C58818-1FA0-48BC-9E15-77EFEF38D3F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64E782AC-0AC2-477A-A8F7-6D4541AD8FB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CDAB5931-7DD5-4305-A01D-9276B24E03E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5C1F2223-D1EE-4B61-B095-DE4B7B8E773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908E0B7-C9CF-4D31-90FF-60380CDB3F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EEDFB8-9564-4FB3-93D9-2254AA97B79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3D0274A-D807-49C2-A9AE-8111AFA811F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BDAACFDA-238F-4964-9D1F-5C6D3AC1F7F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C254562-083B-4264-9112-52875455D1B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A909ECE1-64EE-4D0C-AA8C-D6A89AF0810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2EA298FF-DC31-44BC-9808-D34F1F9AE08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043F11B-26E8-4550-B9FD-A741F0F591F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1FE9076-38EE-4B11-AA3D-B7D3FD250CE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95835D6-02B2-4BC5-8D85-34F02B7AAEE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5D01844-C2ED-47AC-BD7A-12310882F91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D2A8A0B9-2932-4D30-B83E-30F6C2F142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C84A56C-77F5-4677-9DC5-0692D1168C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056C789-B921-47CC-AEA2-EB9E316BB99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13EEA1B5-849E-40C9-A0AE-8DB17225063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6438C1D-D004-4E58-AC9B-986C7371DD4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0BE1B84-D7E0-4580-8710-2B4E9B29D2C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152FB432-DA7A-4532-9CE4-A40D601137C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29FEB580-213A-4D6C-AB0E-58A81CE0326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352EB569-AD95-4DCC-A974-9E3EFC73D64A}"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3D3E7B1-8256-4207-A6C9-286AA10F596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58E76B3-5DD9-4701-AA4E-EC63C74FD76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A715FE4-2B09-41ED-8B5D-E803ED05CA4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5959621-E122-4BD0-8698-3203537FAB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E2E992C-6340-412C-AC6C-2367CA4BDA28}"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2B249B67-0EE1-4F4F-9408-111A3847EA4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640B0F66-EC2A-4348-9BFD-46181AF32DD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36B1D8FB-308E-48EC-9C4E-A660EC1AB92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BA1A3C5-12FD-4A71-96DF-11D87C0072A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33475E18-1B6E-47ED-BEED-584B648AD07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2A95DE51-93A8-4640-BF82-4553577D90F0}"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4B15D44-6304-4B93-91BD-8939CABF736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3AE3EF6E-E46A-4694-811A-1A5C84D91EC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5D2EA165-B48F-4718-9B6B-FBCB3B10E07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DA72B3D9-3C65-487D-83FE-D1DBE0BDE5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D67300C-9701-4EB2-8D60-4890F7C6EB4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447D838C-F697-4FB4-8166-9779E7D22F6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BE6CB255-A076-446B-8FE7-F820FD8E8F4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D22698C3-DDE3-4961-8559-3FEC4290E4EC}"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0415002A-793F-4D7D-88D9-61A973DD544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D3E3C9DF-91E6-4B64-BDEF-42BCB796D0B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D3952C5-29EE-4B6A-9280-C526D15753C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83FD73B2-304B-4784-95C5-1269A156628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177C4F30-8514-42F4-A8D5-14EBF4433A7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32554E58-F918-4E6D-8FE9-29F4799C0EDD}"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C2CCF382-63A8-4936-8A3E-33940F0B1C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73582BB-B3E7-410E-ABDD-E3D61AF7635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5F1C508F-618D-474E-B26F-0491E246C1B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8D0BAC19-E0B2-4919-B4F2-E5A9A1264F0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E659EB4-27E5-4C08-B0EA-158D3DC4175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4EC8DF9-DC32-4DE1-8C55-4F274F8FA2F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7C003F7-8193-4176-B2B8-C0EA7A34CA24}"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FCD38C8F-7208-496F-B135-3CFAADA5269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C17EB376-54A9-421E-93B5-C3AF9B9AB5CF}"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8634961-801B-4CCC-8F7F-FE536494F635}"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F522F6C-C658-4C86-A3D0-A98482094E3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D6B5F7E2-9F12-40BC-BE1F-E60453196B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F1A6C49-0DE0-4B86-A9CC-97EF72CC1C3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EBE30EEC-25FD-4CA5-AF0F-8F43FF6117E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69F7BD92-A31C-430D-9F98-BFF523C3A20E}"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D3775F62-7C59-40D6-B2F8-E1BC9CD1221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40B9BCB5-7B6F-4607-AE9E-FC3FFAF281D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96FE0298-0E12-4A3D-9E58-CB13B1D4A26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CF2841AB-DCE3-444E-AEFB-9813C904DD4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0B3A1C82-54C8-4D7F-9C45-6C23DC6816F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FA942A88-7E44-46C3-B89E-C1ACB1C74758}"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51AE2AEC-6D8E-45FF-9967-E9CBC8D00BD6}"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68C5308-600B-4772-A8BE-114AD1D3C6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BE47D7F-E719-45A7-A974-36D111F6932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7FA28285-1E9A-4A44-8E2B-2EC1848B05B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E2577657-9414-449E-B3E2-81AFB618559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9B8595FC-A1B8-43AE-A948-10CBF28D291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9E17839B-E8D9-4723-8EF4-948604EF7BF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4F1CA489-1644-4476-B0D5-F7894842D71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23F6B40-2F54-475C-A5D7-E88211483A6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65390FAD-D4B9-4BFF-A8D5-1E9EB2079183}"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2248FD6-5A9C-441D-8086-B6C977ADA86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6910F7A2-BE19-44DE-992C-A71FF7826BA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C21D8A1C-ADF9-4714-A1EE-E529D8D210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321087D-E83C-4FF7-BE28-1C572D51033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0F81E90A-C465-4653-9646-5E69EC51097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FD8AA06F-9B8B-467A-A376-C1A678090B2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8B734C13-2601-4F4E-954C-C7820EB0173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4807A6BE-9670-4F2A-AE51-65BEBB73698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E571060-D777-435C-845F-2527E78BE8D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A83C81B4-507F-4CF8-8E1B-9B994290FEC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8C2BBC19-B302-4D21-B9AE-8E333264230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973140D2-52F0-47B4-96CB-B8D506AA2FB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2B8E2B7-82DD-4B5E-94E2-6E6E3268926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384B64C9-F4BD-4936-AE4F-E280B7C50D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0FA9FB-6A27-45B0-B6F0-3D58E5C3FC1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BE2D2EE0-156E-4312-BE67-C3A6D6A1017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82CF357C-E486-4C9B-9D00-78A3861AC04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94B19C98-2F1A-46F8-8394-CDCE6DB81F1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5CA7974-B3F8-4673-9CBC-E160011B6B5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F4BA0338-379D-40BB-804D-B2C871DDAD0D}"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C0F45802-EDA8-4B4D-B62D-B5520317C63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87F377DB-75AB-4A7A-8C1F-D3C277EC6F5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ADD35C77-C418-4B52-88E6-BB50CFC51F5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B16802A7-F4BE-4D18-91BB-8D2ECE1E2E3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B758AA5-39B4-453C-ACDE-C5F9E501BD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1032CB2-0690-4D59-852B-A63E3D853CEB}"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ED143257-08B6-4472-9754-3A4C9AA2D68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F2EA5F35-4579-4EAD-A03E-5D0DFA809AD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49EE0316-96A0-406A-9298-DDE95AEAF5B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5895F95B-687A-47BC-A86F-3C1D71608CE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A5594FC8-80BF-4AA1-9B2F-8237BC6647D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BE89A9F4-90E8-483A-BDDC-FCDF0177854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1CFFD6EC-AA21-4681-BA9C-2554E07CA45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8E083E6C-9365-4171-A3CC-5BAA9C793F0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74247D15-C618-4752-8152-DB858111D99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1A08A320-2360-48F7-8151-B938D08118C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3BF093B-6094-4590-BB47-EFC59799E8D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240413C2-CDD4-4B0B-99C3-57500046F77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1D42CB0-821D-48AC-AB51-BA34E25DB75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731B9332-4F6F-4AE0-A675-14291959561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B84C68DA-69EA-4CA5-8954-F7A9DDE6B3E5}"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C9E5D10C-6901-4CD1-B670-D0F20F83069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7DC517CE-1E89-46E2-A9C3-03CC861DEA7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F49D9D79-9C4A-4F6F-904C-210C7BE9605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20196E5-1481-49A6-B452-D5067D6E1FC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47A6B59C-89C8-4BF5-AB82-F86C32CAD84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65B1825B-5D51-4A77-BD0F-EC8AD39FD4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12BDA14-9611-413E-9EC2-D6A6131C97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6266BF3-DB12-4747-99F4-7E07AEBD21A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95EF07FF-E7E1-4B10-9AD3-DD5CF57CC5E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C550DB68-2624-44D4-BB31-D98183A2356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346E2ACE-44B4-40CA-96A8-D7C4B3F38F4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C151494-0303-43A3-B500-3017B6F0C9E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C17B8F7-240E-438B-AB9B-F121B3BE22C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E6D3BA50-3382-4A7B-97B6-6097330E8AF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4FAE8DFB-4965-426F-9A19-D6913353702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E9F7B716-3A6B-4F42-B38C-617D38C84C4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7A18E4A3-640D-4F6E-9627-032170CB205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186BD76-E1D8-4D66-A020-EBA95E8FC2C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B7157438-AF2C-4FE7-BDCA-96CAA670B62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27BF534F-09BB-4924-AF3B-F96C5A00C14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D31C8508-9446-41E1-B57B-30DDCA6819B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39F67C62-0308-4145-9A45-23AB43F7D7C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35A522B3-C924-49EC-A9A3-B305FCCC4D6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339F743F-6B1E-4AE7-B6AE-2EA9D6D51FA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43440B3-CBC3-42A9-B586-95DCEF9BED3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120435E2-7A8C-452D-8D94-E70C237C751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C01C337C-BD44-4BC1-A2D0-478BBF4CA2C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89E6CEDB-494F-4A69-B5B2-0E8D43E9093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4354ECAF-1170-4723-B8B4-19BB9AA31D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043BAC8-34FF-496E-B3E3-F62E797DA9D0}"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33509AAF-2186-460C-98D3-EC43335BD0B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A1C760B7-9322-4798-B542-A88FB385F5D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36A42D03-A3D0-4FB0-B8D0-BCC834AAE44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B00A7463-EFFC-4319-80AA-72E4B3D0731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806AB65C-E7EC-47DA-A2BE-EF44B341EE3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2D9DDC74-2525-4B3C-8FA7-37C8B959C7E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2A967B03-5887-43F2-9E56-AC1166BD378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0238323-D013-47D3-9108-C80BE88BDCA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81E17D8-22BD-47FC-8746-431BE7E3CD8D}"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7A80116-6F37-4C4C-B63F-F42D29B53D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5735EC4-3B69-45DD-BED9-54EA645CE69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5C02E3B1-352D-4384-A6D8-8C03EEE2ED5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BB1B1725-4500-41E3-91EF-29C91FCB662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7EF8CC29-7DAE-4767-BD53-3061414AE55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0358F22-E32C-4B0C-A8C4-089E5B2B2BA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DA4F7CE-C092-49F5-9845-01565388A1E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DECBD74-2FF7-48AE-B454-556EDB7534F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9E2DE6C-F881-4D09-A378-B9D898597D8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1236736-C4E0-4075-80A5-C1DD74C0BF2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C1CD0C2-4A29-46BA-B391-000D58EE4C2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85D0885-04A9-4E56-83A0-1A8E39EF20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3845D15-E7CA-4A88-B435-DA109CADC342}"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C59EF4C-6C84-4D1A-89F2-0F889D59035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12AAE12-62EB-4AB4-AD57-A8B90A7F9F8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EB6DFD3-FBCA-4E94-AFBF-CD2A7C63F75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519BA81-770B-45C2-B773-EF3105E5375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5A141B10-65C8-4CF9-9F9D-396254B2ABE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D1613C69-06B8-4DF4-845A-36F463B934E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B92A8F0-7E0B-452B-9EF6-EA76D6291F30}"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51E86A55-CD6D-41A9-AF7A-7528EBCBF7CC}"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AD7195D7-904E-4F04-BA24-BF4A7576B0EA}"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5BA45556-E1A3-4CE8-830C-C8E639193B9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58C9FBA-108D-404C-8306-2DB35360445E}"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710E8920-EE39-48B6-9AAC-DA5CFD00EAE7}"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1E1CBE7-125B-41A8-B9DD-D7613E97B40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39442CDC-B9A1-4CC7-A488-21B284417F3C}"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0D21F5A-F145-4788-8487-6644B8B52C4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A291FBF3-DD9A-4FE7-B8F9-314179F5725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D507682A-F3A5-44F7-99A9-18B7A911A23B}"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0D3646F9-0545-4CF1-AA57-202AB05F67EA}"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4D5A1BC-C4DE-476F-97F6-ECC5862497E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B42B3D99-ABD9-43FD-AE4C-E7AB408967E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A3C03B53-B2A0-46DE-A38F-5408068213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F5EE9B0-F5D5-48EF-A2FA-81D43C150065}"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F50A0E66-D309-4A0E-808E-055CDD168486}"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B1DB5247-458E-4B5A-97DC-59B5A19B0B75}"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9E42FE93-6180-487E-A0D7-AA2E9E6B6A42}"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D78182D8-784A-4D28-BABD-AE858529EF97}"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5ED0353F-10DB-4A32-9FC7-79DD239DB12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74E88602-0591-4411-9460-BD9A2434DA30}"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BCF4060C-CEE0-44DD-BD9A-178D29A2B88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3CE3F69F-0FC4-4FEF-A617-36FD92BDB73F}"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0BD63C41-BCFF-46AD-B851-6E53BDEAB6BE}"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ACEAADC4-24FD-4BDD-A709-E1114CA80F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2F7F47F-0078-4756-980A-424F1140304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A68D1202-E5A3-4C4B-BF67-18F50A432C68}"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93E0558F-7BB9-438A-9667-ECB208DC013C}"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86E6C80A-15FC-4D0C-8267-15944C425DEE}"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030DBB25-5965-4B87-B3BD-9FEB96A9B2C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A73980D4-ED26-47E0-9E0D-A191E6D9B68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02E1F60-8E24-4DC6-9C53-1EB3FC4A1C53}"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CD0A7266-379D-4A5E-89F7-067B6571A06D}"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E66A97F-E804-49E6-9F9D-58A297BA598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3EF3CD5E-63AC-4CFD-AC5D-6BF55175FB3C}"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259557B0-2A81-4D66-85F7-4E00BC778A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B2325C8-000A-415D-91AA-BE6B1524B4BE}"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91F304D6-0690-4831-9D69-B851F418F02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3DC3239-3A47-4002-9A7D-7674ABF9CECD}"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680B3D0B-9EEA-4F9D-A6CF-AE8A368AE98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8FA8BBF0-2394-4103-87F7-1804B9C3845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70D5B1BB-C02B-42BC-9EED-AEB3F2EEBB4E}"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208F9FE5-2DAF-41C8-80E3-71C3FAB8A96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48E4A30A-5202-495B-94F2-24C9236319C0}"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81F10D0-C873-4FD8-B19E-D53C4367DBB2}"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09DFE9B-B99C-4A5C-BE41-513A8E1177F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19893AE3-79AD-44B7-9E23-30CAE4AFD4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F30FF5-264D-4380-8414-262518299D0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81981157-6728-4FF8-BEEF-03DB4BFEAA3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AE4F4ACC-0300-40AE-8D46-1ED6450C69F8}"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E38002CF-E3B3-415E-8881-9796F9A13909}"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43C5053-76DA-4A31-97E8-2D04E3C7661D}"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0A50A625-6F49-4BBD-9FA2-C0444829191C}"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B685A89A-D98C-44B0-8B20-A935A60A1889}"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9B256E3A-9DD1-469A-8F93-1275F4018813}"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F391BC21-23F9-4B34-B5F0-4A17CCA46333}"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81D8C91E-E9B7-4474-B8CC-3527497825B8}"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6D2690B8-0A81-4241-9343-294C7CDCB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D2BB7AB-30D7-476D-9C9C-39DE80058E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546321D-A759-406A-A72D-6B569D68A2B7}"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D218D55-71F3-4573-9AEC-BD770B89D96A}"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B4922D7-EECE-4B5C-A250-F63075B63B49}"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7A0DC88E-2F66-4CDA-8059-EF7F2AD92B9E}"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3A7BBDF0-FCED-4DAD-B2E8-7CC1191519A6}"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D4699984-DCB1-4605-B386-84772EA84F80}"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0DC8381-E99A-4286-A8FB-32BA2C2D8422}"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7EF3EA63-8EB4-4D04-ACCB-24674571516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D61901B8-2B9B-4FC9-B6CD-6F0799D4AB1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B296B92-FBB3-492A-B773-29C3AD622F3A}"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23B5C6A7-D7C5-4666-83CA-9565593F80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89A8939-6EB2-4B5B-94FA-C7E066DC7ED7}"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6CB5A71B-7A57-4A96-945C-7968D4BCA115}"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D78D4E85-042F-4545-A5F3-89871F9846C8}"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41FE6CE8-F847-4A6A-8C21-B100A0027821}"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4A9A5B2-0BE7-4890-A0F3-72DCEAEC3F4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D948C1C-CE5D-46CE-AFD9-157E2D855248}"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2A5B0255-FA28-490B-A29C-38DBB7069FD3}"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FBFF3EBF-F6EC-4854-88D6-128046DCA5F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D71EFA52-0D5F-4BDA-8574-CD0A5C46AFAF}"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AE2F4A08-FDEA-4317-8C2D-B8FE1D250F2B}"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1B3D1760-8B7F-46C5-9624-4617095D0C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371165B-F7D4-4434-AAEF-8AD527696FB9}"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53F86B43-3301-4FF1-A0D5-19B36FE77ACE}"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4B6539D6-67D6-4690-BA81-5986B8C04A81}"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5F33E160-0DA7-4299-9D33-D1043203C101}"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7CC47B1A-30FB-4E39-826A-EFE0C583DD92}"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B4E23DA9-CF3B-42DF-9B32-18A132D1DA5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84AA0C27-8C31-4521-A19C-EE345D1A7E56}"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B8EB721-6C73-486B-8754-B13E3615E25D}"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2D92FBB2-E2CF-4753-BD0E-965B4463A980}"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706A2D77-A86A-429D-9AB9-0EE9EB051A56}"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2460E29-2845-4781-88BD-950208B04E2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A9E1887-F792-4E51-9F9A-421FE28DA8A9}"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36428CC1-172E-4DA3-BD0C-27F405361925}"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869E8B5E-7A03-4A7B-9D40-397D4A93C59B}"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BF9B9EA3-993E-4CDB-BD98-99B5D5580E59}"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27EE36E2-089D-4DF6-AB78-4C968082DE96}"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632600BF-838F-47E7-A03F-02D4567B16F8}"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110D89DB-C1FC-405B-B722-6114B6542A17}"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D61D4AA-7EC7-4B43-A692-23656B9509A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14E13CE1-C2D3-44C5-B504-0205AFF4321C}"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586EB6D-2CBC-4B56-A539-A97CCB96623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D6B9FC17-D1E6-472B-851D-89258B621F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FCE7491-983B-4E83-AE65-7DA7C9007D6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E8EA64B3-66CA-4DF3-8BE5-D6C894E8C7EE}"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B097DA65-7670-49B4-96E6-DC456E1EC03D}"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3B965C0-5B92-4712-9464-7FC5140B990C}"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92AF8BF8-A556-4C27-9BBC-6CC34325CC88}"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CF39F16A-B78B-4235-B3B3-DBDFDE2ADC9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2F3085D1-B6AC-467D-A896-6339328CC37B}"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4FEC91B5-317A-465D-AAF2-7F3C5D763C7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4BDC00B5-EE1E-47C0-A4A4-1B73A06EA7B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D9BF8E88-D940-4ADA-9304-D40BA3A4E144}"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014FA1F-9B15-4ADB-A1D5-51283BDD2F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B337CFD-562B-472C-978B-6B38F468D55C}"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7079DFEE-0A02-4ECA-80BC-6733AA890BDC}"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F021815A-F39C-4A92-B173-5C73CC0508A6}"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201DEB4E-F431-4323-9925-750FFAB1498D}"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39B222C7-7B56-46D0-9050-654AF7ED06A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113ADD7C-8C27-488E-83FA-D3BED1763802}"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90412158-9D94-4EEF-8308-EFEF1EBC7B9C}"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3BDF3F74-DEEF-4B94-987C-B8D1F27A12AC}"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A0418F49-3B54-4CAD-9FE7-1B1AAA1D4DB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0001CB33-07AC-43FB-B387-1A9F027D4DED}"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2D26BA0-681E-4630-BA9F-68CC25C47D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C71D2E2-52A6-492D-B553-A141CB0B7F6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4F2D2B2-93FC-48B1-900B-F9787C8E493C}"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4910BF3-6DFD-4BC8-8A1C-8CEC8A40CF8B}"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9D602413-875E-42CD-9E3C-1A3A36A7199B}"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01C260F0-B64A-46D6-964E-C84F131382CC}"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97391946-5FA9-4238-81FD-12CECD04CA6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A86EC59-147F-47D8-B69A-1DB7898E722A}"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AE4BE1B6-3599-4D13-966F-D5A35C601264}"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4B71203A-7A31-41D2-A879-403679BC9433}"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A26CBC5E-6A70-4371-BF72-9E48F89BBFF3}"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B5E11519-EFF6-4E68-8D54-39802A39A5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DF8EDC7-A845-4293-971F-89A03245EB58}"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B7F89F8A-FEFE-4C51-A952-BADA7AC3C7D9}"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B784068-8EBF-463A-AD88-39642E70695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EC2E0A0E-029B-40B4-823F-C95D31292A4E}"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A15AB290-9D01-4BC3-AE69-E97D53DC5248}"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FCDC69F4-C268-41AB-86BB-2EF5568AF3A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4E3DC2F1-5650-4561-A23D-DF45D6FB358D}"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76FD3433-382A-4B60-9F11-A185722D40BF}"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9868BBB-D1F6-46DC-8EF1-94A4C2F706C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7823B0A-B8AA-4B58-AE45-2234A3A26F6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A58BE403-3C35-48EA-AAB1-B939BF943A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6797EC5-44CE-4E83-A606-2187DD2E671B}"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6014F247-ED3E-46A3-B17F-11DFFA5E01F8}"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B4E0EEC1-0D19-4D3D-B27D-9BE6957FD9F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E128B277-8C1B-47D4-8C9B-1B550CF932A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50D5C7B-459F-4877-ABA1-907C599F801E}"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31B1C5C-2901-43D8-9499-2B3CFC49BCA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D8FA4B0-EC29-4EB6-A449-950A310C54A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0BF94C0A-09F9-4CB6-B4AE-981FD8E31983}"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EBAC0885-C8E3-4B21-AE5C-DEDF849B19CE}"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A75CC105-DAA9-43D3-9DB4-2BE8754769B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2F3771FE-9F8D-4B9C-8A29-398C648674A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D74C8FE-8B14-4EFB-B457-70F3318EDE94}"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832741E-524B-4C21-AAE7-0EEAB8848041}"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C62E4AEF-934C-4BC1-9FFC-A0FF654D1066}"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370F55EC-C913-4177-8172-55FD6636638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BC9815E1-3A21-4334-AA87-2C4D45954B2E}"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EABF203E-A6C9-432F-B7F2-7FA3823CEE88}"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16827AAF-4AA0-4F93-BFDF-3CA26B139A6F}"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CFEF7846-6EF9-4404-994D-12076FA9906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5591921A-197F-4725-8CB0-9ACA85D0535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07424AB6-0104-4F14-A6C9-18411CF12E4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A6396DDF-9E61-4968-A6E0-CB10BD5FC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E108C39-A284-45E9-80A4-83697A26D5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371BAE0-83B6-401C-A09C-B5CD8791A3E1}"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51CBA40C-96C8-4357-8114-76FA2BE73A91}"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CDE01092-6782-45F6-87E0-D6BFA103C49C}"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7D83B0E2-6231-4B56-8167-65EC462B36C4}"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D0202FB1-D737-4B73-B083-E777F26F73A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E27C2ADA-E20F-4FC6-B032-7D4FE55F6049}"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139D4FD6-A58E-4479-842F-5722902BB31C}"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ECC6D4F0-E327-4E85-AB50-3275A683914F}"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FF25B34F-FD2A-4F9B-8AB6-3918D11A3369}"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5B1FB502-7704-457A-8910-E5EEE6E7D59E}"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A7E4B9A-D455-400D-9CF5-CDB65FB07A3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D659BC-8244-4D80-9719-E1F3424F90F3}"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6D47780C-9977-4961-88FE-D1908078D740}"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8A546AD5-C81A-4364-A663-D6EEAD5C91FE}"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40D3FB67-2C91-403E-A223-6535C3CFBD3F}"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EDF9AF8A-CD88-4F2E-8CC9-D056C0CDCFFD}"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E8693DD8-0923-4A1C-A210-2D30C472D50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F226CB18-1CF3-41D6-9C2A-615791AD0E70}"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A27698C0-F622-4A0F-B067-0C2CF9DB221A}"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9A35895A-1031-42BF-8585-3D77FC071266}"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FC74EE50-EA14-4D5D-B068-7AD93AB2C9D9}"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EFB29786-0851-442E-A0B6-AE8D806706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A379B92-5A6D-4E0C-AA4C-F9D39611C267}"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6FDD97F2-6421-41EE-AE2F-42D7C5934B00}"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A6ED76F6-10EC-4660-B6A2-A9A4926E7516}"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26F5725D-C91F-49BD-8279-735CE8646213}"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68107E95-68DB-4C75-BD8B-20EDBD7761AD}"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2D0D867B-B179-4712-AC11-DC7B332C209B}"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3D40C2E-1BC4-4988-A4EC-EEF99ECD1099}"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DF1646A-354A-48E7-B516-F8E265A04D5F}"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1933C174-C578-4335-A57F-06A45FCCF422}"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33BB1A4F-E2F2-4732-AD16-589BF9B06A55}"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42E28BD3-2F4D-4CAF-B1EF-BD6D12CCE0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CC020D0-660E-47B9-8524-7B3D72F426CC}"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7514C91A-AF45-4B85-98BA-CDB9AD344971}"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5CF05DCC-A940-42B7-8312-8604210B675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3717CF73-9762-4F46-8683-C3FF03831A18}"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BF7260A2-8B70-4564-B515-8CFF5DBB82AE}"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67CFF968-094C-4722-BAB6-FD2C9E0F8507}"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EE391C32-B5A3-44F7-89BA-029098733BD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CF7C8AFD-E0E4-49D8-A939-5B1A60DCB96D}"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A80ACD60-8626-4646-AFEF-90E950628DC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C83E1EAC-965E-4B26-BF11-DFF18AD6C3A3}"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CA746B50-9B21-40DE-B729-FE719098BF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6A6237B-5CB9-4CDA-935C-48BA66185203}"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09057009-9367-470A-A7B6-38C2A2766978}"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DBAAD5F7-E2FA-43DE-86E9-FA5725BF2113}"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4F4AF36F-E7D8-4159-8D3E-50D74EF3A67B}"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9FF320B-F0F9-4E10-8DA6-783E0391667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CF061EBE-2D70-4084-8CAC-54E0022369A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A7466FF4-1817-49AF-9593-E2F60D864063}"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D446C96-69DC-4A75-A76A-48DC1C0A5AB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5DAEBD75-0302-41E0-B9EA-CCDE75A2BB4C}"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21E3EA37-EE54-4C45-95B2-261A1805822F}"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69A1B004-F0D4-48CD-8B7A-4FF4BA6FB9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5D7F150-70B7-4E74-9DD7-26083EAABB80}"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EDC4124E-D9FE-47B1-9FFF-30F5F48820C4}"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E89D589-0EEA-4E42-964F-1ED5877553BA}"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63A6120-D3F1-4255-93BA-A17FE36BFCBD}"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51506C93-3595-4B27-88A2-B6BC65DB3CFF}"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7F3317D3-E351-4125-8C60-1B38992257E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193F41F-9008-4B0C-8E4E-B4145BE4B66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BA5E86E-1939-4B87-85CF-B707358194AA}"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ECAC04C-1639-4973-90E0-38979B196F64}"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4B9EB60-1DA1-4AE6-BF99-91A4DB3C0490}"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E329E079-6F7F-46E8-AD41-7C6621DC55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0C07C81-A7D2-42CD-8B7D-87CF7FC82EF7}"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0581A465-5809-49BE-8E4C-5E60B54829D3}"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FFF0712E-A6FA-4498-9522-A7268704F831}"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32A4D08E-991D-407B-BE72-7454B03C56EB}"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474DABF5-31AB-40CD-BE00-8BBC9EFA41AE}"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C15344CB-6C82-4DD8-A964-ADBD19407D32}"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CCB33DB2-09FC-4631-9867-770D5C795A9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F3334CFA-DC1F-4B5A-AF90-3B9DF584FB58}"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350B9C0-BEE1-453E-8ED2-167B8B0B280B}"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DE1B578-9C14-49BA-A905-86F885259D11}"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EB57590F-0B7F-4742-9C78-E3A3820848D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06854C8-9000-45E9-8F8D-3E98480F854A}"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CE14019E-0B21-494F-BA67-E3B6EA0E018B}"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74A5C10C-FF11-40F8-9545-6653DDAC64E4}"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4EDC517A-23E9-438B-9930-6A20A178EE40}"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6950B946-9E96-4E6A-A0CA-419915BD7301}"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A13AB940-29CC-4F49-8AE3-E6337D9E84AA}"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15C7F507-67B4-490B-88FE-91D8C7014D3C}"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6CB0A4FD-12EF-48C2-AEBF-1B7437082DBA}"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A01A2E17-7496-4F33-80C9-95C969F60074}"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63CAFBB8-A308-4DF1-9F94-E1F791069A9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E5B5D6FA-F3C7-4A54-9DD7-421D59749C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C0F2D5B-E3D5-42F7-950A-D82B09A3DC42}"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148D69B-4CCF-4B8A-86D2-CE5235FF66D5}"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B3D52DC0-A11C-4884-9BF8-5B45C1B1241B}"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5220742-01CF-432F-ACCD-08978E4F93A8}"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CBD2E8F0-0E40-42C9-9080-71FD6B491D0A}"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A7AF5CD6-A200-4654-BA2F-064017487B11}"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F0A8CEFC-2541-4DC2-8429-2A950EB967F6}"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25F20C3-520F-47C1-9A70-6E8C6EE74A63}"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709DA54D-DF74-4F59-A781-DD054D090A6C}"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D4E1CB2-1CAC-410D-AF76-122282EB7856}"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B9EBB25B-FE0D-47C6-8C97-E19C59620D5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DC72C8E-02F0-458E-96B5-AF8B4BDD55F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7D90E8CE-FBC8-4CEF-9EE2-CBE837FA6253}"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16B10996-7534-4CB1-85BB-FCAE68EE9CFB}"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DDF10507-F5B4-4D9D-8010-383A64CBD49E}"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BC56139-D04E-4D0E-B6B3-00705BF0242C}"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3ACDC7B2-5426-43E3-BF2C-D7C5B785CDBD}"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BAFCACC7-71A4-4C9B-A721-6A1F0BF7EB1E}"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8764CD0F-6BAE-4C9A-A5FE-17CB73107BC5}"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D8DBF882-6F95-41FE-906A-A79197177ED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550DA2E0-5F71-43D3-A27C-2BDD5C5A1AF0}"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4F89029A-DB02-4792-9EE7-5D51B8FD8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1428B1A-2F20-4E99-B934-63CD70E5BF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799BC6E-0E45-45D1-BC76-69297EB318F8}"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EF9CBB13-F5C5-4FEE-BEFD-D19833728A00}"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39C22C0B-9027-495B-B590-2DEFC95F0BA3}"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BE61DCC9-A631-48D2-9358-5DF5CFAAEFA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53375A54-449A-4DA6-871A-9A80A7DDE4A2}"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785FBCF9-8B0E-4D07-AD7F-AACDFA81C472}"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72094181-8944-428D-B9B4-6C467F3A182A}"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EBF206D0-6A84-4DFC-ABF7-33565EA663BF}"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54BA4E7D-1A85-4A13-9F4B-7917AE247FA8}"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27D1D678-472B-4DBD-AC17-D2FFF016550A}"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EA4677E9-DBCF-47E7-95A3-7A80C25118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5589BB4-902D-4F33-8609-511BD23430C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C8C44288-E4DA-459D-8EA6-A20F8146FD41}"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34A456D-EDD9-4666-A674-5D6B9DADE09D}"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F358973-6E64-479D-837B-F2CBC43EF46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25AC5CA3-F936-4664-8253-EEB7D3A98D3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66137554-C3CE-460F-8FC1-386CED29EC34}"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6D55829-0E12-4B9A-B9A7-107141C73BEB}"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F79F33C-879C-4ED2-8F17-2C72FFCD06B9}"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66A1EA0-1EBB-4D60-A547-0420C5DEB835}"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F9729C4F-DEE2-4A60-851C-A4440A55B068}"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A6377062-680D-4EF8-B9E5-FE2F7985DFD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D7B52C1-BE86-4E9D-B7CC-4CE86D58B3C1}"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E13A72FF-6AAD-4C2A-8D71-E80CE251AB53}"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12F9692E-26B5-4A63-8564-7D784402E22B}"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D7155979-C970-4A9B-98BB-C33B8A11DBE4}"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976884EF-C831-40F5-83AD-2C33E9BD3BCC}"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F94E7AFC-5489-4214-9973-DDEC57444462}"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63170A35-5A7D-4FB5-8EC1-7FBF0FBCD12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2A2EB6AA-2ACF-4180-BE61-6529B37F679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E343764-D4ED-4430-9549-1C6AC9E00285}"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BF63FBD-D25F-4CB5-A353-FEF57BD33158}"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058793D-F3E1-49C7-8912-351657338BB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278747-4318-4874-8101-A0511C3CFCC7}"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279A378-18C9-4714-B98C-54AC9D32A87A}"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355DD6EA-2924-471C-A149-D0D0B1740B19}"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C76DBB7D-D028-4390-9667-DFED8C4B69B8}"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122E14F9-C3BE-4F3F-B01C-72E16B1FE48E}"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884B18B-7743-457E-849D-8C9E35643D19}"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CBCF2A0C-CC49-4E08-9112-D866B114C47B}"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8515423B-6047-49CA-BD5D-85975683F263}"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10E8157E-6C12-4836-870E-D1A917BD2E0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5E4366BA-45F2-49CE-841F-AB1917C9E0C6}"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A0FA9A9-CC17-4EE5-B856-7F54A22D4F5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5C39778-869A-4215-A311-9942C43B6890}"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B470F48-698A-4A31-8210-ED5B6764DE76}"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CA0610B-0CCC-452D-BDDF-F792B70E768F}"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1A7498D7-0B72-4879-9183-1FA5D3AD972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654B7A16-F157-4C3E-98AC-9E261EBF19CB}"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FFE75919-1340-41E6-A18C-EDC01D6BF33F}"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98200637-0AE4-4AD0-8235-47FC79F3CC11}"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941CDAE-6546-4CDB-B65B-34AC90D5981F}"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262E13A1-CD0C-4531-A5E6-DB088D8647D2}"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90D1A775-4A04-4A95-8EF2-4E71CC69911A}"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D3B4F933-660C-48D1-BE80-44D8F12CC2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57192B5-FE38-4B72-A08F-05AE22A75A63}"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5E018CE6-9266-41C0-8541-A7F7C6F14CB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129D325F-CD0D-4830-9861-48CB4DA0289A}"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9E77A1BF-6097-47ED-9B8E-7DFC786BA4C4}"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4E9A3469-5698-4556-B0E5-ED68BB614F1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EBA3B7C-8B56-4EDA-A7A2-A5D93AC6A8E4}"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76259E99-F009-4E26-BD88-D9BB340BBBC3}"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4392EC21-EA99-4FA8-9E06-6B52A83111AA}"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A3E7A8A-CBFD-4F60-88C4-6ECC7E921B1B}"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5CE85E88-730C-4DD5-8EFC-722C8D843515}"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5A982018-0355-411F-88B1-2B7B835E02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A51DEB8-D980-4AED-AC84-FFA15A52C120}"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EBF87E7-402D-49F7-A893-6D744622115B}"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A8E42E65-1BCB-41A5-9E4E-7BB3D5131A39}"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5ECB1A46-227B-4CAB-8ED3-AC91D600799E}"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369D27E-927B-4727-88DB-4BAC3DD57545}"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8BBCC9A5-CED8-4773-93E1-5B40F6A9953F}"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FF66330C-BB7B-4585-AB41-7D13384D7095}"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28AE168-A4B7-4966-A229-156395CB182A}"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70EB7BF-765A-4E2C-A942-D0E851197629}"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0B693AC3-AB0F-4CCB-904E-5ECCA0826796}"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AC52A231-F4C0-44FB-85FC-9161634C341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B26B9C2-7E62-4B5C-A8E1-CF3C3A7C4B54}"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0C4EA8BD-D64B-49B1-B338-1287A5B9A994}"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21F65B01-07F2-4A53-B1EC-C6CBF83C6252}"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35798902-00E2-475E-92F6-BFA7E7B7BB64}"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CD1A1744-AD7F-4303-8EB2-F26CB1F4ECDD}"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F9531CFF-A0DE-41FF-8531-4056A4B1A750}"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60C75E9F-D424-4F15-9B26-E8E0C6F78790}"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C7659FB5-776D-460C-8511-4B974AD18F65}"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D1A62BA4-0D9D-489C-90CD-C3AFE4D6F0BA}"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87A59EA0-B04F-4C6C-8FFF-8A422CEA56B2}"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E47454A-B423-4570-A50F-2A2A650E28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3B7FC76-4867-467F-B822-91677C6CF9E4}"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894CACE9-B885-48FC-BA4D-8627C274C126}"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655C2D8B-2F57-4DFF-92E2-FE218F7234D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E01CC95A-3EB5-4953-9851-78C376DFE6F6}"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8BDC935-B1FA-4ADC-891B-D9C88DA40709}"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F07D6922-2118-427D-A740-4603B7B98AD0}"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95CF3E62-CCBA-40CD-A736-BA88EB5CCF83}"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C1B0C8A8-4F5A-4D11-993F-552E3D4BB6C2}"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5562E27-252D-47D7-9B7D-54B45B7C9CA0}"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6AEB82B-0974-4977-910E-D62498867AB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9E5C5D1-68C5-4398-8ED2-2B08A6D5942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D0C1F63-E361-441E-AF9B-9055A8F3BF1F}"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162010F-790A-49EC-BD0F-90C1A5D970C0}"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9BC64472-0D88-45C1-AE87-CB9CD05F1A7E}"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0CBB9C87-100E-4295-A4F4-F0218662A1E7}"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4467AFC4-29BE-4980-B693-B5BD5980DDDB}"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BD6D63F4-A303-470B-B090-71F7EED6273F}"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4143124C-B7D3-4FA6-B97F-1617F5A2D8B0}"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05121114-36EA-4C2D-B9A5-AC0D1E31B48C}"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A88AC5FB-9EC1-4B92-87D1-90C0AEFF9ACA}"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8A998CDA-7817-4DE4-B36A-F42AEFCCA35C}"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2C03A0F1-D33A-4F5D-B017-C1537FDFA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1FAAAE7-270D-4A3A-A828-30DBD6E7C7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EF1DD8F-F272-45FA-81F5-331DA8FDD544}"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096BB286-6D6C-4A06-8F64-2C20F4F3343B}"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51709A9B-3F17-4166-9EDB-97AC81093559}"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AE4E8A1C-C54F-4A54-ABA0-DDDA3550DB9F}"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21CBA086-05B2-4731-BEF9-9A0C11EA357E}"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FF6C8AB9-07B2-439D-8AF8-437BFE7B8B32}"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EA2E9B37-5FB5-41B8-962F-7C0545E1AA05}"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E9998DF3-AEF2-46B9-8693-90B424CFFC19}"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288D7A8A-6499-4E5D-B84A-A0296EDFC468}"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DD059766-5DCD-41A6-BD12-9193E7CEB621}"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474DB2E5-9745-436C-A954-B4AFC23AC01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4A7C510-354D-4586-8C30-B59ED527E779}"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3DC43F54-941E-42AD-910B-38182983285B}"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0499C695-D90F-44C0-9946-4267FAC6F553}"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0F39768-F539-4F00-88E2-934A84D597C9}"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8E0FC53-778A-4517-9C72-6F8EDE6E6F85}"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176DDF06-05C9-4BB0-86B9-A8BAA8F0FE9E}"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E36A5A00-5455-441F-9661-54FFA70EFEC1}"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67FE94F8-76FA-4CF0-A2E5-2EA153A6E0B0}"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A6FF3D53-09E3-4400-A83E-B948CE907B41}"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832F100E-BBCE-4362-A4F7-D3B8FCE9EC47}"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ECA5957E-0F33-43C1-910C-D02DC3EE5A7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A0FD6D0-292A-48C6-A55E-B178F777A9A6}"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85602EF1-333A-4170-B751-C884AF5ACA9B}"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84077F4D-3F6B-48CA-A777-0840430F9812}"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66C62E1D-6648-4AAA-9F08-EB0D7D9DD662}"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5EC6B255-02BD-4601-863A-DD5F117BCC00}"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C390A991-925B-4076-8999-0E0772713C23}"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91A34383-B97E-4721-A0DD-D7AB140EF721}"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63EB51C9-5613-4350-BBD8-3144A1D803E8}"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092DF3B4-8E56-406E-933E-C93488EE2F64}"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9E832666-23F0-4731-9631-2E24009DEE30}"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3E664A3B-71DE-4751-B403-EB49921126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BBD61BA-4195-42CA-9431-F9B859632F97}"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8B4CB09B-9D8F-413D-BA9F-21B5FFDFFC1B}"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2B2AC101-DBCB-4489-910F-66DDB23365C3}"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2DE70079-9299-416F-B2C2-F6C7251947C4}"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9A133F2F-ED6C-4446-B046-EC84004093C7}"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677BDE38-ADD3-4666-BD8E-51CE0A4225C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1419557A-A9F1-4147-AE02-07C049F2E577}"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BA305598-AD71-45DA-A7EA-08C8A8BADFD2}"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E7ACED30-D1C1-41DE-B58B-500E5345C06D}"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FB175A54-A567-4029-AEFB-492D15A4F430}"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33955415-5E2B-4D66-81F5-C980B9E299D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F55E922-66B4-423A-826B-123F45F5B95E}"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0E9E7AB1-720E-4F93-98CC-857F5E8093BF}"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DD2D4429-8D99-42A0-B77A-2AE0C433D395}"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B4D875DC-8536-4532-9F99-2025BA7FFFEC}"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6D840137-992D-46EA-932D-EA0A30F3B57A}"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59FA0EE0-0549-4081-9300-5DDD8CE43F30}"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878AFF21-A67E-49C4-81CE-B9E8019D57C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7D3FA891-30B5-4B26-8B82-BF3B1EFAE948}"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A6FEB37E-D8A0-437D-A224-335E00901FCB}"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79C47B7-8306-408B-982F-1BCDC70182BD}"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59DCFB09-17A1-40AF-97F6-948FE80B79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939A4D-94E9-4B51-82D5-F9070579DC27}"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07B93BBB-6F84-4D53-840C-0501F06E478A}"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60E3C5F2-4C25-4FBE-9A9D-D27D194CEEC8}"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6ED80F33-4EFA-4B67-8B63-6233C2A6B663}"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B780704F-9836-4637-9AC8-397AB52DF59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B5AA988D-BF6B-4A91-AD8E-C5A84819F601}"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01177F93-4FE0-4EFC-B738-CF355951AAC2}"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1C970C89-1EE4-459E-A64D-D9BD0806AA12}"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73D02930-91E4-433F-976D-42495CBB1D7C}"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09E1CDD7-82A3-4D8F-BF4B-E31075D6206B}"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7973A3AE-E16A-4BB1-A8AD-7E0F223ED6B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FE6659A-D1E2-431F-A062-4CF7CA4B1C0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2F82351B-9FF4-48E8-B809-64B4ADDD4B2C}"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A0536897-605A-42DC-98D2-F49D131656E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4D4593C1-3409-4F2A-8101-CD679A32EE44}"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F61EDD08-D9E0-4931-BFA2-07D896BDBB25}"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E703A0C8-B1EE-4DD2-BD93-26FAC4D07E14}"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41E9D815-4C8E-4BA3-9537-EBC5E22D3D80}"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2C9F10BB-44A7-4BF1-AA5D-363126C3A44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AA321281-8CA0-496F-A403-DFB101F7F88D}"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77CCCC62-2D62-48D3-93B9-675C22A4AD07}"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BBDC397D-3CB2-4092-B109-21EB594EC3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F3BAAF1-6DB9-40E1-BC22-66E09DFE5D38}"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89A541E5-B138-4B2A-B945-FC24340DA532}"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E8FC9DDA-3924-496F-8923-C8D4BCA06C1D}"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7D1A2FB3-EC6E-4E38-9EC2-67E34DB6C794}"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70D87724-4E80-4BB1-9D59-8E614719D7A0}"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5ED59416-0850-410A-ABC4-092A4454918B}"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CD43EAB9-8164-4B0F-AC8E-9E637B8BB285}"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D7DF1A87-62F4-433B-92D5-C4367D9AC51A}"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82BA4038-5FC7-4872-B40A-FDEA7616F332}"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C723C1E5-42C3-4A91-86B6-26C159A66F83}"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D23C0CF9-83E5-4E22-BFFE-5A9DA4B27E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32770CD-3EC3-4B03-922E-08CBB4A194F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38313AD8-C6A9-40AB-8609-695EADE3E4AE}"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DF989934-BD85-43A7-B75D-85C5742C5124}"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743DE481-73A4-4848-8840-EF01CA0EFDCC}"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9DB326CD-AA49-4172-93A3-47A5A4784867}"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9954A69-2362-4AD0-A19D-24E4E55D29F6}"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B76C1AF-8F0A-4334-9457-F25F8055CAA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B2DB2D50-584E-4C3F-AEA9-E833B51C50FD}"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4369E0AE-0C78-4F6A-A44C-7BAB7266DF70}"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F04CEBAE-2F5E-49D6-8384-645A697BA0E2}"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CB4F0927-997A-4180-834E-FCCDF1E458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8419015-955E-4C75-9BC3-B129D4CC65D3}"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B0CD43F8-876C-4A51-9461-2C4A37AAE33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2196C783-B88E-4F6D-BA58-9EAA2B79557C}"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CE382D4-25E3-4F96-9A5C-587386677C0C}"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A3E2EC16-91EA-4E20-8D2E-EAD2AE3654C3}"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479F99BB-0D17-42F3-9093-3790BA03EB10}"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0BBA89DB-133A-4E44-B7CB-AB47678C628A}"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267316B4-641D-4E0E-B91B-B26FB0D71EE5}"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12E159D-DA4F-4110-9D7E-ADEECDD6C561}"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FBEE8E47-AD97-47DE-8235-184F125E306B}"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0148FC3A-8A0A-4647-8D65-5833D490D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C873A60-007E-4A5F-ABF8-8DD71D6365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DFCCE5E-98DC-45C8-8CE7-6DF82F0AA23A}"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DDE732C0-46D3-4F7D-A527-7DA572766D90}"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C717EE85-2268-4360-9E47-C16140755B50}"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2AAE567E-7182-44D0-A7A6-11645FE869A3}"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BA3CB2A8-355D-477B-A738-2C8C30042465}"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11CBCB9C-672B-4DF3-8725-4139E7C0E9C8}"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D275003C-521F-414C-B884-1CE9A532EE22}"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52A9E338-0ACE-4F01-B59F-654CADBEB531}"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3DA1ABCD-060B-4B3A-9023-5B9A847D9F03}"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109CD0F-D883-4A89-886F-1A5528C587EE}"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A80AFCCD-F358-4B78-AA85-396E06590F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C48809-F5D2-4706-B1F9-4A9D5C84BF80}"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D7DB6D9D-18CD-4806-9916-10127E9123C0}"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87B8FBB8-622D-4C18-8A7A-EEF26E52A03B}"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90BDF931-9EB5-452D-B0F8-96F8B0722272}"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00AD9D43-C7A5-4CB5-8327-726B69637914}"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02C60908-3FB7-4D24-BE0A-D61EE616AF4A}"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F4D14B5C-466C-4E67-80E9-0315789DF249}"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2D15E6AE-596D-4CBB-941A-A07F60ADF82D}"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B2989EBB-86F2-4CC2-B288-F04D7D229ED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ED78CB34-C553-4ECC-AC3E-D8CB33CB046F}"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A3759883-0067-4F58-8549-3125EF16D2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527FF1B-8C52-46E2-86E9-EB3B8F681046}"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63704805-1C2D-4FD1-8117-2189D59A1500}"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EE47D2E-D80A-46CA-AC09-C5BAF074DD08}"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BFE353CA-D126-46DA-99B0-9FCDE60F4EC1}"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CF6C9D22-342D-41A5-92F0-67429890C864}"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8A0F4B2E-F219-4D17-8732-D141E7573777}"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535EB6FD-4922-4B12-B595-76BF497A61E3}"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A8375900-BF7A-4AF4-B3C4-82832249AA3D}"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C5BAA8C3-3768-45E1-8A32-7DE9E664D921}"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D160C0A0-099B-4EFE-B881-2D11C1391554}"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25CD7ECA-B86E-4277-A55E-4554BC1FD35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CFDB318-2D30-4785-8514-4F9A4CABAE69}"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DAAEC47D-4ED5-42C8-A938-24CEA14B9F09}"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51281026-FE0A-48F3-BE42-C24F5ECEA188}"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104E7936-47DD-4D1A-BBCE-EAEFA820F3F3}"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F4D8B9BE-998A-47C7-9CF7-A896EF896BE5}"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07843CF2-EE00-4F2A-BF23-817CC5249B91}"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F3367FAA-4DCB-4BDA-BC31-AED1F60A517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B80B5488-C827-4E7C-860B-558225F6B7AF}"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64FA8B97-B7B9-4C91-9965-C913F17D2AF3}"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A7349B72-CE5C-4047-BA04-643DE96F1E3E}"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1B66F176-1E33-4431-B2A3-2C23EBCAA9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CFD81C3-FB8B-4B29-9E5C-58F1997CB3AB}"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0BA61FE-713E-42D3-8F61-8F1F600F4A5F}"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102B67DC-5A35-4181-A1BE-5AB79E54851F}"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840061A5-A5F0-41F7-9312-8C7AEAE64957}"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8BE2613-A2DB-4763-8D84-D29E721E599B}"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4B6F0CA7-33BF-49B5-A60C-8797E1B5AD3F}"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95682E8-D34F-4385-9F91-53E5DF4517D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41B0563-3F7E-45BA-9E6D-17C6436CF1BD}"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D29973FB-AECD-49DF-A143-56DA8F44059E}"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C322581F-B596-4672-A8DA-1DF4030D99F6}"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58F47782-A70F-48A1-ABF5-73482C7BB2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3141BF5-29D8-4BD9-8826-2787BCB4BDF4}"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1F32C1E2-98DF-42F7-A652-1C18858F213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C63B6C56-14D4-4116-A4AA-12C720665666}"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AE174FB0-289B-4994-8F27-F291E5D951CD}"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EAA29531-61F3-4E70-A912-E575A3331BFA}"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3113DB2E-243B-40EB-8334-E255D95F9D33}"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99ADE06F-5A96-41C5-8169-F17AADBA8DCF}"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79E7BC2-D896-441B-96DD-55BED4FBD213}"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BB8B7C78-8CF8-4B43-977D-87E091AFA480}"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9F7A1C2-F94D-4796-919A-2DFB7943E2C4}"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4507C985-290B-424D-8359-67E76065A7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9387BF5-B3A4-4D12-A553-D46628D51D31}"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A6995042-29F9-4E81-A5F3-1358385C19F3}"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962F17F3-F50F-414A-8D32-40DC2132C350}"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3CD3A755-3367-4595-95FA-9E5C22A535FC}"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BEB1036E-3205-4DD5-98F2-06A21F1DD13D}"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C5163060-4F9A-48F3-8902-17F5EE755331}"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6CB937FF-7D28-41B4-ACD7-951CA3F260D7}"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0F4A2EB7-6316-4727-A794-FB01E4D6386D}"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8B179588-3945-4D4C-B511-5ED641950A38}"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B1D3AE0-778E-4142-AD11-5DFBDDA1C603}"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7DB22E3-0C7D-457E-AA26-E51CF96893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3DC475-CFB5-4E29-AC7C-0CE7CF595C51}"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0A95C2A2-A949-4D27-9B7F-81B4434CF035}"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50174EE-0DF6-4BB1-9FCD-CAE271A70560}"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6245C38D-0BA7-4431-B8E9-E4E6D67E95D6}"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D11AA65B-5493-4064-8C8A-33C0158C4507}"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B9F63EA0-4D5B-445F-9784-BBA6120C2061}"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5E0E72FB-BB5C-4692-9A10-3F11C8697E3E}"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1ECE3FC1-50F5-4E9B-98A6-B121A4EAEBFE}"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52699DC5-A41F-4B2C-9343-E458FB9A9C99}"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408F3C2B-592A-4D60-A4C0-D13D1EA907E6}"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0B14CB5-5646-4AF0-A3A3-C03D6C55B5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D8FF29A-9DEC-48E6-8F52-4B700FBDE483}"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9FA4D21-8D6A-4FB6-A4F5-A982C3555D97}"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CCD1495E-8D72-45C0-90FF-FC7EB85510FE}"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72A2C783-695B-4A8C-A479-52FB927A67A0}"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DF24751A-5D06-4619-AB69-8E6B7EA0523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036A04F8-48D5-4104-B182-88BC5A68A521}"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A28ADD0-6F9C-4D91-80AE-E7CD3802A705}"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866545AE-A46F-4D62-8435-0D71EA1623A6}"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629D9D62-E6C0-4C72-81B7-A6CC19F5C599}"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ABB1150F-340C-49E3-BA10-90D82D4412D4}"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E0E825C9-DB70-4780-A279-5E679BFEE8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909F1DE-918E-4A0A-ADC2-3DC79160939D}"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EB401573-C492-4B0F-8750-C0582E5BECFD}"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14243FE5-82EE-4FAE-B723-FDAC770CB88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2EE4D9DF-24D1-435C-9BA5-3135162406B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F7107132-21A1-461C-8D6B-310046069934}"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B0D784BB-C977-4C1E-BC4F-204E31F2986E}"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26363179-2D4D-422A-ADBD-8571DF4D5107}"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D658A9A0-7AA8-4A26-863A-27FE99F11710}"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894A43DA-24D9-495B-B5BE-0AF3D1ECBE8E}"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2A0399C7-AFD7-48F6-8CDA-3F78A60B2FDD}"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507A0114-A0FB-45DB-BD25-3F7DD946A3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FF388-34A7-423D-A2D1-3C1D8D361E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8893E-1DAC-48D7-A07F-1D49B7A243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C8F8F-2E38-4AB9-B59F-EA97B0F666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47A35-7260-4D44-9BE6-70AB247303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17A7D-0CB3-4CA2-B589-777ECB478F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C49A8-8B55-4790-9DD0-0771BE4DC1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67A11-33D2-48E0-861A-91F1D3D46F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1D34C-A100-4385-9D82-C1ACAF3AE3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E55EE-206F-4F94-A1D0-4C0359BF90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87ECC-6611-4066-975A-F08B4C5D34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75B07-0F03-46B3-A6B6-F11D28124E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A5566-8605-4034-9E12-3DC8774B40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2F4A9-FFF8-4E6E-BC7E-A93D10D146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6E455-B17B-4B39-BD75-DC26CFED45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9EBF5-F8E7-432C-8E3A-E34EE844AC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5C8B4-7BED-47CC-BAE2-86C7EA6F14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372B7-C329-421E-864D-A120E0B9B1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ADB6C-C0C5-4D4F-9691-F48E6D0C12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A33FB-CA89-40F4-8DD0-68A8666C76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56F30-4FC3-4AA3-8127-5BEFCBD0E6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BEC4A-6B62-46B3-BAD5-7D35DD4EA8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C9613-C62E-4458-8026-5EE1776395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EDA41-33E7-4FD4-9856-CF44274B1E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5DDC8-5364-4C64-B59C-F8F7616016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4201F-FB73-47D7-9E3B-EB94604778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1110A-9E16-4957-8F64-BFCF0AFF57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138A6-44A6-44CD-A39C-EC31338DA0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EF12B-204C-4113-A6C1-93B8325E84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657F0-AC99-4E81-B41D-063B3FF9DD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92CBC-A361-4550-9B25-31F0493FF6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60B7E-8895-4C9E-9DDA-3D126284D4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999C4-6A6E-41F7-93E7-304ABE711C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EB125-E918-4E95-AE18-B18B495B6F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09664-7BDD-42BC-837A-DF92D9904B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6C5C9-931B-4968-B740-943B7A58DB0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9608D-DB53-40CA-8D9F-CD0A40A40E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9242D-B8E4-4E0E-B767-2C0F2529FB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31250-5D29-4CDB-BD4B-CF2C708CEB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E55BC-E090-456E-A238-6DD85CF3CD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237B1-B562-45FD-9CBA-DB549EA9F6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D99A1-6643-47CC-9722-992002A269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33FF3-EEDA-4CE4-8A97-2522F1EEDA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74FC8-5A13-41AC-AE5E-152C4F1955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61025-2396-44C0-89BF-FAF4C9D4A9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51303-379E-4D80-ADE2-6C1F4097F0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95ED4-9CC6-4408-B064-C6309A15C5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70BE0-DAD3-418F-8E45-DCBE4CA792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C8040-D2F5-4CAF-9F44-9D550A87ED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BC7CD-0865-413D-ACAE-3DFA99D7C7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01904-EEFD-445C-AF44-5CE193FEC8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86195-D4B9-46FE-A6BD-BF95343C89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BFA8D-8B69-41F7-8596-0BBFE4EA04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2BD9F-1EB8-4DF6-822B-F8965489414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22711-13DE-4B94-BDB3-FF3CF57B5CE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B81A1-22E7-46C6-AEE7-7194A991E97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E8417-A563-483E-95C4-AC71F610921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C87E4-4633-4D53-8DE9-9F09CA94DB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FCBE5-9B9B-4954-BB82-4210586348A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303B3-3FEC-4DA0-85A5-B908478E858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1A6C4-7BDB-4B1A-9ECD-47EBCCEA4D1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7DCE8-35B1-4226-9DC8-10AABC7CB85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1FCD7-416E-4E5A-BC73-199E30CC081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1BEF7-C35B-4DC2-BDAE-C03675C7FC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4E562-5C00-40CC-807D-066A3E4DBF7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02B55-EC8C-4FF5-8C66-B7A4553442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FC190-2291-41A1-A858-AD879B2105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FFC74-BCC8-42D1-A3FA-C42AF3F966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28F13-13DA-44CE-BCBE-5BBCADC9B2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0B691-A170-44B3-8F21-B7FA280429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8A33A-39FD-494F-83E1-55D349B15E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1EEAF-19B0-48CD-B3DD-4764883ACB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34DAB-669E-4035-8DC4-A6A898DA60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2C8A0-FE6A-4417-B90D-7AEDE381C6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54CAF-20EA-4807-BCD4-ED56EAA81B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009D9-44AF-476C-B60C-28812DBFC5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C19AB-7B37-46D3-BFB7-DAFF07F7F5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2FEB2-BF66-49E6-A6DE-82A4D1C0D9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A8F8A-DE93-4F52-88A6-C0BEB7F642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B31F0-B865-43FE-BF49-59C4E0EA19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45299-1388-4B7B-8736-E25BA32EB2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A2AEC-CB02-4AA9-98F5-9896A5E9CF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605D6-EA0F-4341-B57F-6192182545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C6473-7456-4CB3-BCF7-6445F2554A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39EE2-EB48-4A60-885D-7C1D6B9ACD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C1B75-AD4D-4055-AF1F-B144875623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B587E-E095-404E-B703-1A63F8EF2C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DBEED-F48D-4D39-98D1-F07D4F5C61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2D738-F9E8-4D51-A5F7-38C72F2846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2490E-0EEE-40AC-A638-EF0F392CC7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F4EC6-BFC8-4F2F-88DD-94A7B0865B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0FFF0-90FA-4099-9A21-9C9CAE2CA4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4E9BE-8916-41C6-BB1C-6BFE872E03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767C4-42D2-474B-BB48-697986A89D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729F6-7D39-42A1-8B62-6281BA9177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61F52-4A8B-4B9B-8A42-8C5F08564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50759-00A3-440D-A970-C44BCF5763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53BE2-B69A-46FB-9E82-4D67E23AB9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A46BE-677F-4A24-8633-71B553D445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3591C-A441-458B-BD73-B65C815837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61E8F-1252-4102-A39A-CDA1F04D26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8FE62-5E21-45AD-9C05-D08F877763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2F8A1-ABD8-485E-87F5-9EC65F847E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A1619-A917-421F-AEB4-6BF5FFE4D4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A7316-FFF8-46C3-BE5D-976D6BB3CB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AF755-4ABB-443C-B96C-9F012B549F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9C13A-E3A5-4FEA-85A8-CA479DE13B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9A1AE-7581-4E42-A944-D33B43DD56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5492B-8500-479D-B7B8-DAD33FA1D4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FF820-3529-49E5-9B63-CED795C3FA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10EB9-0947-4FCB-BBA2-0C545DF679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10581-F677-4792-A8D7-C8D392CBF9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B2A8E-CAB0-4ECE-ABA4-06F64C388F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31057-E022-4DDF-AA0A-79807AF3E6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48098-6E60-4B7E-868E-6534FEEA44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9356B-4503-4AB1-BB2B-F7ACE2D4EB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A466B-CED5-42BE-B1AA-0EB8B57696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6C3C4-9088-42A1-8BF5-CC7C9925E2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3B20C-7FC5-481B-BFE8-67E23EEDBD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C46D0-2407-4FD9-A79C-B209586F21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F0DCF-D78F-408D-B9E7-71EC42AA4E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4FD4E-471D-4A8F-86B3-C020E2E659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78BEE-D065-4C00-A8E7-293A4DE11A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954E9-D94C-44B7-8BB3-A0F497E663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1CA1F-BC2D-4744-9082-DD6D9AC7AF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8F1AB-2515-469D-9A1F-9CF598C770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222C4-E866-4854-A568-C89ED1D1DD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931F2-B9BA-4BF4-A2B9-9BD4F1DEC9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13057-9168-421D-AF51-00EA58BBD8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4B72C-B992-4148-B021-98377C1DA0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4CDBF-6D06-414D-BE2D-548CF30D55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11918-73D6-465E-B8A2-A3F367D58B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1405C-1C44-4004-8205-3850EAE8C9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0576D-9FF5-445F-A8E6-F7CDCE7003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679C1-D4BE-4225-BC48-02A8443369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453E1-291B-4708-84A2-5E07756051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FA093-EB84-4CED-BBD0-8FE8C1815E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DCFC5-51D5-4493-962B-9C3DC228A6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A75D3-3790-4371-86CD-B5A1FEB23A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526C7-3B5E-4E79-A614-5D4182B9D8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3EEE8-E490-4C80-BF37-DAF637C157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5B9D1-C2DD-47D9-AF63-8770CFB1E1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B2B88-118F-4623-8856-7D88FA33E2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907E8-EFF1-4004-808F-F4718A2A74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8210F-2375-4354-8EBB-E84EC76DD1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2BA9F-52E8-4E11-8EE0-B449FE1B17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50E1E-FFF1-4578-8C11-1A440F5853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1EC96-BF2E-4DC0-A099-99BACCD29D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73CF9-71C7-4314-BAB2-036D39361A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C8CB8-17D2-4FA2-80EE-7313086585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75B80-BF28-4BDC-AC9D-CA725E87D8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3254D-CDAE-4276-9B2B-654581471B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F175F-371D-463B-836C-0BD3163742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D07D2-9053-4F01-AD2B-637912EFED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08D96-588B-4B72-A534-EB05ED26B4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E79BC-22D9-45BE-9E42-63E9C9F5A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7843F-E0F4-4D1B-AC67-8F31FD5DED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250920" y="981000"/>
            <a:ext cx="820872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125360"/>
            <a:ext cx="7812000" cy="46594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826920" y="1125360"/>
            <a:ext cx="7993080" cy="439128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250920" y="981000"/>
            <a:ext cx="8642160" cy="4680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181080" y="1392120"/>
            <a:ext cx="8783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ffffff"/>
              </a:solidFill>
              <a:latin typeface="Times New Roman"/>
            </a:endParaRPr>
          </a:p>
        </p:txBody>
      </p:sp>
      <p:grpSp>
        <p:nvGrpSpPr>
          <p:cNvPr id="6708" name="Group 2"/>
          <p:cNvGrpSpPr/>
          <p:nvPr/>
        </p:nvGrpSpPr>
        <p:grpSpPr>
          <a:xfrm>
            <a:off x="0" y="115920"/>
            <a:ext cx="9140760" cy="6548400"/>
            <a:chOff x="0" y="115920"/>
            <a:chExt cx="9140760" cy="6548400"/>
          </a:xfrm>
        </p:grpSpPr>
        <p:grpSp>
          <p:nvGrpSpPr>
            <p:cNvPr id="6709" name="Group 3"/>
            <p:cNvGrpSpPr/>
            <p:nvPr/>
          </p:nvGrpSpPr>
          <p:grpSpPr>
            <a:xfrm>
              <a:off x="0" y="115920"/>
              <a:ext cx="9140760" cy="6548400"/>
              <a:chOff x="0" y="115920"/>
              <a:chExt cx="9140760" cy="6548400"/>
            </a:xfrm>
          </p:grpSpPr>
          <p:sp>
            <p:nvSpPr>
              <p:cNvPr id="67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5"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ffffff"/>
              </a:solidFill>
              <a:latin typeface="Times New Roman"/>
            </a:endParaRPr>
          </a:p>
        </p:txBody>
      </p:sp>
      <p:grpSp>
        <p:nvGrpSpPr>
          <p:cNvPr id="6717" name="Group 2"/>
          <p:cNvGrpSpPr/>
          <p:nvPr/>
        </p:nvGrpSpPr>
        <p:grpSpPr>
          <a:xfrm>
            <a:off x="0" y="115920"/>
            <a:ext cx="9140760" cy="6548400"/>
            <a:chOff x="0" y="115920"/>
            <a:chExt cx="9140760" cy="6548400"/>
          </a:xfrm>
        </p:grpSpPr>
        <p:grpSp>
          <p:nvGrpSpPr>
            <p:cNvPr id="6718" name="Group 3"/>
            <p:cNvGrpSpPr/>
            <p:nvPr/>
          </p:nvGrpSpPr>
          <p:grpSpPr>
            <a:xfrm>
              <a:off x="0" y="115920"/>
              <a:ext cx="9140760" cy="6548400"/>
              <a:chOff x="0" y="115920"/>
              <a:chExt cx="9140760" cy="6548400"/>
            </a:xfrm>
          </p:grpSpPr>
          <p:sp>
            <p:nvSpPr>
              <p:cNvPr id="67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4"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ffffff"/>
              </a:solidFill>
              <a:latin typeface="Times New Roman"/>
            </a:endParaRPr>
          </a:p>
        </p:txBody>
      </p:sp>
      <p:grpSp>
        <p:nvGrpSpPr>
          <p:cNvPr id="6726" name="Group 2"/>
          <p:cNvGrpSpPr/>
          <p:nvPr/>
        </p:nvGrpSpPr>
        <p:grpSpPr>
          <a:xfrm>
            <a:off x="0" y="115920"/>
            <a:ext cx="9140760" cy="6548400"/>
            <a:chOff x="0" y="115920"/>
            <a:chExt cx="9140760" cy="6548400"/>
          </a:xfrm>
        </p:grpSpPr>
        <p:grpSp>
          <p:nvGrpSpPr>
            <p:cNvPr id="6727" name="Group 3"/>
            <p:cNvGrpSpPr/>
            <p:nvPr/>
          </p:nvGrpSpPr>
          <p:grpSpPr>
            <a:xfrm>
              <a:off x="0" y="115920"/>
              <a:ext cx="9140760" cy="6548400"/>
              <a:chOff x="0" y="115920"/>
              <a:chExt cx="9140760" cy="6548400"/>
            </a:xfrm>
          </p:grpSpPr>
          <p:sp>
            <p:nvSpPr>
              <p:cNvPr id="67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3"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ffffff"/>
              </a:solidFill>
              <a:latin typeface="Times New Roman"/>
            </a:endParaRPr>
          </a:p>
        </p:txBody>
      </p:sp>
      <p:grpSp>
        <p:nvGrpSpPr>
          <p:cNvPr id="6735" name="Group 2"/>
          <p:cNvGrpSpPr/>
          <p:nvPr/>
        </p:nvGrpSpPr>
        <p:grpSpPr>
          <a:xfrm>
            <a:off x="0" y="115920"/>
            <a:ext cx="9140760" cy="6548400"/>
            <a:chOff x="0" y="115920"/>
            <a:chExt cx="9140760" cy="6548400"/>
          </a:xfrm>
        </p:grpSpPr>
        <p:grpSp>
          <p:nvGrpSpPr>
            <p:cNvPr id="6736" name="Group 3"/>
            <p:cNvGrpSpPr/>
            <p:nvPr/>
          </p:nvGrpSpPr>
          <p:grpSpPr>
            <a:xfrm>
              <a:off x="0" y="115920"/>
              <a:ext cx="9140760" cy="6548400"/>
              <a:chOff x="0" y="115920"/>
              <a:chExt cx="9140760" cy="6548400"/>
            </a:xfrm>
          </p:grpSpPr>
          <p:sp>
            <p:nvSpPr>
              <p:cNvPr id="67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2"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ffffff"/>
              </a:solidFill>
              <a:latin typeface="Times New Roman"/>
            </a:endParaRPr>
          </a:p>
        </p:txBody>
      </p:sp>
      <p:grpSp>
        <p:nvGrpSpPr>
          <p:cNvPr id="6744" name="Group 2"/>
          <p:cNvGrpSpPr/>
          <p:nvPr/>
        </p:nvGrpSpPr>
        <p:grpSpPr>
          <a:xfrm>
            <a:off x="0" y="115920"/>
            <a:ext cx="9140760" cy="6548400"/>
            <a:chOff x="0" y="115920"/>
            <a:chExt cx="9140760" cy="6548400"/>
          </a:xfrm>
        </p:grpSpPr>
        <p:grpSp>
          <p:nvGrpSpPr>
            <p:cNvPr id="6745" name="Group 3"/>
            <p:cNvGrpSpPr/>
            <p:nvPr/>
          </p:nvGrpSpPr>
          <p:grpSpPr>
            <a:xfrm>
              <a:off x="0" y="115920"/>
              <a:ext cx="9140760" cy="6548400"/>
              <a:chOff x="0" y="115920"/>
              <a:chExt cx="9140760" cy="6548400"/>
            </a:xfrm>
          </p:grpSpPr>
          <p:sp>
            <p:nvSpPr>
              <p:cNvPr id="67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1"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2"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ffffff"/>
              </a:solidFill>
              <a:latin typeface="Times New Roman"/>
            </a:endParaRPr>
          </a:p>
        </p:txBody>
      </p:sp>
      <p:grpSp>
        <p:nvGrpSpPr>
          <p:cNvPr id="6753" name="Group 2"/>
          <p:cNvGrpSpPr/>
          <p:nvPr/>
        </p:nvGrpSpPr>
        <p:grpSpPr>
          <a:xfrm>
            <a:off x="0" y="115920"/>
            <a:ext cx="9140760" cy="6548400"/>
            <a:chOff x="0" y="115920"/>
            <a:chExt cx="9140760" cy="6548400"/>
          </a:xfrm>
        </p:grpSpPr>
        <p:grpSp>
          <p:nvGrpSpPr>
            <p:cNvPr id="6754" name="Group 3"/>
            <p:cNvGrpSpPr/>
            <p:nvPr/>
          </p:nvGrpSpPr>
          <p:grpSpPr>
            <a:xfrm>
              <a:off x="0" y="115920"/>
              <a:ext cx="9140760" cy="6548400"/>
              <a:chOff x="0" y="115920"/>
              <a:chExt cx="9140760" cy="6548400"/>
            </a:xfrm>
          </p:grpSpPr>
          <p:sp>
            <p:nvSpPr>
              <p:cNvPr id="67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0"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ffffff"/>
              </a:solidFill>
              <a:latin typeface="Times New Roman"/>
            </a:endParaRPr>
          </a:p>
        </p:txBody>
      </p:sp>
      <p:grpSp>
        <p:nvGrpSpPr>
          <p:cNvPr id="6762" name="Group 2"/>
          <p:cNvGrpSpPr/>
          <p:nvPr/>
        </p:nvGrpSpPr>
        <p:grpSpPr>
          <a:xfrm>
            <a:off x="0" y="115920"/>
            <a:ext cx="9140760" cy="6548400"/>
            <a:chOff x="0" y="115920"/>
            <a:chExt cx="9140760" cy="6548400"/>
          </a:xfrm>
        </p:grpSpPr>
        <p:grpSp>
          <p:nvGrpSpPr>
            <p:cNvPr id="6763" name="Group 3"/>
            <p:cNvGrpSpPr/>
            <p:nvPr/>
          </p:nvGrpSpPr>
          <p:grpSpPr>
            <a:xfrm>
              <a:off x="0" y="115920"/>
              <a:ext cx="9140760" cy="6548400"/>
              <a:chOff x="0" y="115920"/>
              <a:chExt cx="9140760" cy="6548400"/>
            </a:xfrm>
          </p:grpSpPr>
          <p:sp>
            <p:nvSpPr>
              <p:cNvPr id="67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9"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ffffff"/>
              </a:solidFill>
              <a:latin typeface="Times New Roman"/>
            </a:endParaRPr>
          </a:p>
        </p:txBody>
      </p:sp>
      <p:grpSp>
        <p:nvGrpSpPr>
          <p:cNvPr id="6771" name="Group 2"/>
          <p:cNvGrpSpPr/>
          <p:nvPr/>
        </p:nvGrpSpPr>
        <p:grpSpPr>
          <a:xfrm>
            <a:off x="0" y="115920"/>
            <a:ext cx="9140760" cy="6548400"/>
            <a:chOff x="0" y="115920"/>
            <a:chExt cx="9140760" cy="6548400"/>
          </a:xfrm>
        </p:grpSpPr>
        <p:grpSp>
          <p:nvGrpSpPr>
            <p:cNvPr id="6772" name="Group 3"/>
            <p:cNvGrpSpPr/>
            <p:nvPr/>
          </p:nvGrpSpPr>
          <p:grpSpPr>
            <a:xfrm>
              <a:off x="0" y="115920"/>
              <a:ext cx="9140760" cy="6548400"/>
              <a:chOff x="0" y="115920"/>
              <a:chExt cx="9140760" cy="6548400"/>
            </a:xfrm>
          </p:grpSpPr>
          <p:sp>
            <p:nvSpPr>
              <p:cNvPr id="67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8"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ffffff"/>
              </a:solidFill>
              <a:latin typeface="Times New Roman"/>
            </a:endParaRPr>
          </a:p>
        </p:txBody>
      </p:sp>
      <p:grpSp>
        <p:nvGrpSpPr>
          <p:cNvPr id="6780" name="Group 2"/>
          <p:cNvGrpSpPr/>
          <p:nvPr/>
        </p:nvGrpSpPr>
        <p:grpSpPr>
          <a:xfrm>
            <a:off x="0" y="115920"/>
            <a:ext cx="9140760" cy="6548400"/>
            <a:chOff x="0" y="115920"/>
            <a:chExt cx="9140760" cy="6548400"/>
          </a:xfrm>
        </p:grpSpPr>
        <p:grpSp>
          <p:nvGrpSpPr>
            <p:cNvPr id="6781" name="Group 3"/>
            <p:cNvGrpSpPr/>
            <p:nvPr/>
          </p:nvGrpSpPr>
          <p:grpSpPr>
            <a:xfrm>
              <a:off x="0" y="115920"/>
              <a:ext cx="9140760" cy="6548400"/>
              <a:chOff x="0" y="115920"/>
              <a:chExt cx="9140760" cy="6548400"/>
            </a:xfrm>
          </p:grpSpPr>
          <p:sp>
            <p:nvSpPr>
              <p:cNvPr id="67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7"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ffffff"/>
              </a:solidFill>
              <a:latin typeface="Times New Roman"/>
            </a:endParaRPr>
          </a:p>
        </p:txBody>
      </p:sp>
      <p:grpSp>
        <p:nvGrpSpPr>
          <p:cNvPr id="6789" name="Group 2"/>
          <p:cNvGrpSpPr/>
          <p:nvPr/>
        </p:nvGrpSpPr>
        <p:grpSpPr>
          <a:xfrm>
            <a:off x="0" y="115920"/>
            <a:ext cx="9140760" cy="6548400"/>
            <a:chOff x="0" y="115920"/>
            <a:chExt cx="9140760" cy="6548400"/>
          </a:xfrm>
        </p:grpSpPr>
        <p:grpSp>
          <p:nvGrpSpPr>
            <p:cNvPr id="6790" name="Group 3"/>
            <p:cNvGrpSpPr/>
            <p:nvPr/>
          </p:nvGrpSpPr>
          <p:grpSpPr>
            <a:xfrm>
              <a:off x="0" y="115920"/>
              <a:ext cx="9140760" cy="6548400"/>
              <a:chOff x="0" y="115920"/>
              <a:chExt cx="9140760" cy="6548400"/>
            </a:xfrm>
          </p:grpSpPr>
          <p:sp>
            <p:nvSpPr>
              <p:cNvPr id="67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6"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ffffff"/>
              </a:solidFill>
              <a:latin typeface="Times New Roman"/>
            </a:endParaRPr>
          </a:p>
        </p:txBody>
      </p:sp>
      <p:grpSp>
        <p:nvGrpSpPr>
          <p:cNvPr id="6798" name="Group 2"/>
          <p:cNvGrpSpPr/>
          <p:nvPr/>
        </p:nvGrpSpPr>
        <p:grpSpPr>
          <a:xfrm>
            <a:off x="0" y="115920"/>
            <a:ext cx="9140760" cy="6548400"/>
            <a:chOff x="0" y="115920"/>
            <a:chExt cx="9140760" cy="6548400"/>
          </a:xfrm>
        </p:grpSpPr>
        <p:grpSp>
          <p:nvGrpSpPr>
            <p:cNvPr id="6799" name="Group 3"/>
            <p:cNvGrpSpPr/>
            <p:nvPr/>
          </p:nvGrpSpPr>
          <p:grpSpPr>
            <a:xfrm>
              <a:off x="0" y="115920"/>
              <a:ext cx="9140760" cy="6548400"/>
              <a:chOff x="0" y="115920"/>
              <a:chExt cx="9140760" cy="6548400"/>
            </a:xfrm>
          </p:grpSpPr>
          <p:sp>
            <p:nvSpPr>
              <p:cNvPr id="68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5"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ffffff"/>
              </a:solidFill>
              <a:latin typeface="Times New Roman"/>
            </a:endParaRPr>
          </a:p>
        </p:txBody>
      </p:sp>
      <p:grpSp>
        <p:nvGrpSpPr>
          <p:cNvPr id="6807" name="Group 2"/>
          <p:cNvGrpSpPr/>
          <p:nvPr/>
        </p:nvGrpSpPr>
        <p:grpSpPr>
          <a:xfrm>
            <a:off x="0" y="115920"/>
            <a:ext cx="9140760" cy="6548400"/>
            <a:chOff x="0" y="115920"/>
            <a:chExt cx="9140760" cy="6548400"/>
          </a:xfrm>
        </p:grpSpPr>
        <p:grpSp>
          <p:nvGrpSpPr>
            <p:cNvPr id="6808" name="Group 3"/>
            <p:cNvGrpSpPr/>
            <p:nvPr/>
          </p:nvGrpSpPr>
          <p:grpSpPr>
            <a:xfrm>
              <a:off x="0" y="115920"/>
              <a:ext cx="9140760" cy="6548400"/>
              <a:chOff x="0" y="115920"/>
              <a:chExt cx="9140760" cy="6548400"/>
            </a:xfrm>
          </p:grpSpPr>
          <p:sp>
            <p:nvSpPr>
              <p:cNvPr id="68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4"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ffffff"/>
              </a:solidFill>
              <a:latin typeface="Times New Roman"/>
            </a:endParaRPr>
          </a:p>
        </p:txBody>
      </p:sp>
      <p:grpSp>
        <p:nvGrpSpPr>
          <p:cNvPr id="6816" name="Group 2"/>
          <p:cNvGrpSpPr/>
          <p:nvPr/>
        </p:nvGrpSpPr>
        <p:grpSpPr>
          <a:xfrm>
            <a:off x="0" y="115920"/>
            <a:ext cx="9140760" cy="6548400"/>
            <a:chOff x="0" y="115920"/>
            <a:chExt cx="9140760" cy="6548400"/>
          </a:xfrm>
        </p:grpSpPr>
        <p:grpSp>
          <p:nvGrpSpPr>
            <p:cNvPr id="6817" name="Group 3"/>
            <p:cNvGrpSpPr/>
            <p:nvPr/>
          </p:nvGrpSpPr>
          <p:grpSpPr>
            <a:xfrm>
              <a:off x="0" y="115920"/>
              <a:ext cx="9140760" cy="6548400"/>
              <a:chOff x="0" y="115920"/>
              <a:chExt cx="9140760" cy="6548400"/>
            </a:xfrm>
          </p:grpSpPr>
          <p:sp>
            <p:nvSpPr>
              <p:cNvPr id="68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3"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825" name="Group 2"/>
          <p:cNvGrpSpPr/>
          <p:nvPr/>
        </p:nvGrpSpPr>
        <p:grpSpPr>
          <a:xfrm>
            <a:off x="0" y="115920"/>
            <a:ext cx="9140760" cy="6548400"/>
            <a:chOff x="0" y="115920"/>
            <a:chExt cx="9140760" cy="6548400"/>
          </a:xfrm>
        </p:grpSpPr>
        <p:grpSp>
          <p:nvGrpSpPr>
            <p:cNvPr id="6826" name="Group 3"/>
            <p:cNvGrpSpPr/>
            <p:nvPr/>
          </p:nvGrpSpPr>
          <p:grpSpPr>
            <a:xfrm>
              <a:off x="0" y="115920"/>
              <a:ext cx="9140760" cy="6548400"/>
              <a:chOff x="0" y="115920"/>
              <a:chExt cx="9140760" cy="6548400"/>
            </a:xfrm>
          </p:grpSpPr>
          <p:sp>
            <p:nvSpPr>
              <p:cNvPr id="68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2"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3"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ffffff"/>
              </a:solidFill>
              <a:latin typeface="Times New Roman"/>
            </a:endParaRPr>
          </a:p>
        </p:txBody>
      </p:sp>
      <p:grpSp>
        <p:nvGrpSpPr>
          <p:cNvPr id="6834" name="Group 2"/>
          <p:cNvGrpSpPr/>
          <p:nvPr/>
        </p:nvGrpSpPr>
        <p:grpSpPr>
          <a:xfrm>
            <a:off x="0" y="115920"/>
            <a:ext cx="9140760" cy="6548400"/>
            <a:chOff x="0" y="115920"/>
            <a:chExt cx="9140760" cy="6548400"/>
          </a:xfrm>
        </p:grpSpPr>
        <p:grpSp>
          <p:nvGrpSpPr>
            <p:cNvPr id="6835" name="Group 3"/>
            <p:cNvGrpSpPr/>
            <p:nvPr/>
          </p:nvGrpSpPr>
          <p:grpSpPr>
            <a:xfrm>
              <a:off x="0" y="115920"/>
              <a:ext cx="9140760" cy="6548400"/>
              <a:chOff x="0" y="115920"/>
              <a:chExt cx="9140760" cy="6548400"/>
            </a:xfrm>
          </p:grpSpPr>
          <p:sp>
            <p:nvSpPr>
              <p:cNvPr id="68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1"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2"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ffffff"/>
              </a:solidFill>
              <a:latin typeface="Times New Roman"/>
            </a:endParaRPr>
          </a:p>
        </p:txBody>
      </p:sp>
      <p:grpSp>
        <p:nvGrpSpPr>
          <p:cNvPr id="6843" name="Group 2"/>
          <p:cNvGrpSpPr/>
          <p:nvPr/>
        </p:nvGrpSpPr>
        <p:grpSpPr>
          <a:xfrm>
            <a:off x="0" y="115920"/>
            <a:ext cx="9140760" cy="6548400"/>
            <a:chOff x="0" y="115920"/>
            <a:chExt cx="9140760" cy="6548400"/>
          </a:xfrm>
        </p:grpSpPr>
        <p:grpSp>
          <p:nvGrpSpPr>
            <p:cNvPr id="6844" name="Group 3"/>
            <p:cNvGrpSpPr/>
            <p:nvPr/>
          </p:nvGrpSpPr>
          <p:grpSpPr>
            <a:xfrm>
              <a:off x="0" y="115920"/>
              <a:ext cx="9140760" cy="6548400"/>
              <a:chOff x="0" y="115920"/>
              <a:chExt cx="9140760" cy="6548400"/>
            </a:xfrm>
          </p:grpSpPr>
          <p:sp>
            <p:nvSpPr>
              <p:cNvPr id="68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0"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1" name="Text Box 1"/>
          <p:cNvSpPr/>
          <p:nvPr/>
        </p:nvSpPr>
        <p:spPr>
          <a:xfrm>
            <a:off x="863640" y="1392120"/>
            <a:ext cx="795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ffffff"/>
              </a:solidFill>
              <a:latin typeface="Times New Roman"/>
            </a:endParaRPr>
          </a:p>
        </p:txBody>
      </p:sp>
      <p:grpSp>
        <p:nvGrpSpPr>
          <p:cNvPr id="6852" name="Group 2"/>
          <p:cNvGrpSpPr/>
          <p:nvPr/>
        </p:nvGrpSpPr>
        <p:grpSpPr>
          <a:xfrm>
            <a:off x="0" y="115920"/>
            <a:ext cx="9140760" cy="6548400"/>
            <a:chOff x="0" y="115920"/>
            <a:chExt cx="9140760" cy="6548400"/>
          </a:xfrm>
        </p:grpSpPr>
        <p:grpSp>
          <p:nvGrpSpPr>
            <p:cNvPr id="6853" name="Group 3"/>
            <p:cNvGrpSpPr/>
            <p:nvPr/>
          </p:nvGrpSpPr>
          <p:grpSpPr>
            <a:xfrm>
              <a:off x="0" y="115920"/>
              <a:ext cx="9140760" cy="6548400"/>
              <a:chOff x="0" y="115920"/>
              <a:chExt cx="9140760" cy="6548400"/>
            </a:xfrm>
          </p:grpSpPr>
          <p:sp>
            <p:nvSpPr>
              <p:cNvPr id="68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9"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ffffff"/>
              </a:solidFill>
              <a:latin typeface="Times New Roman"/>
            </a:endParaRPr>
          </a:p>
        </p:txBody>
      </p:sp>
      <p:grpSp>
        <p:nvGrpSpPr>
          <p:cNvPr id="6861" name="Group 2"/>
          <p:cNvGrpSpPr/>
          <p:nvPr/>
        </p:nvGrpSpPr>
        <p:grpSpPr>
          <a:xfrm>
            <a:off x="0" y="115920"/>
            <a:ext cx="9140760" cy="6548400"/>
            <a:chOff x="0" y="115920"/>
            <a:chExt cx="9140760" cy="6548400"/>
          </a:xfrm>
        </p:grpSpPr>
        <p:grpSp>
          <p:nvGrpSpPr>
            <p:cNvPr id="6862" name="Group 3"/>
            <p:cNvGrpSpPr/>
            <p:nvPr/>
          </p:nvGrpSpPr>
          <p:grpSpPr>
            <a:xfrm>
              <a:off x="0" y="115920"/>
              <a:ext cx="9140760" cy="6548400"/>
              <a:chOff x="0" y="115920"/>
              <a:chExt cx="9140760" cy="6548400"/>
            </a:xfrm>
          </p:grpSpPr>
          <p:sp>
            <p:nvSpPr>
              <p:cNvPr id="68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8"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Text Box 1"/>
          <p:cNvSpPr/>
          <p:nvPr/>
        </p:nvSpPr>
        <p:spPr>
          <a:xfrm>
            <a:off x="250920" y="1052640"/>
            <a:ext cx="8640720" cy="46591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870" name="Group 2"/>
          <p:cNvGrpSpPr/>
          <p:nvPr/>
        </p:nvGrpSpPr>
        <p:grpSpPr>
          <a:xfrm>
            <a:off x="0" y="115920"/>
            <a:ext cx="9140760" cy="6548400"/>
            <a:chOff x="0" y="115920"/>
            <a:chExt cx="9140760" cy="6548400"/>
          </a:xfrm>
        </p:grpSpPr>
        <p:grpSp>
          <p:nvGrpSpPr>
            <p:cNvPr id="6871" name="Group 3"/>
            <p:cNvGrpSpPr/>
            <p:nvPr/>
          </p:nvGrpSpPr>
          <p:grpSpPr>
            <a:xfrm>
              <a:off x="0" y="115920"/>
              <a:ext cx="9140760" cy="6548400"/>
              <a:chOff x="0" y="115920"/>
              <a:chExt cx="9140760" cy="6548400"/>
            </a:xfrm>
          </p:grpSpPr>
          <p:sp>
            <p:nvSpPr>
              <p:cNvPr id="687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7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6"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7"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8"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ffffff"/>
              </a:solidFill>
              <a:latin typeface="Times New Roman"/>
            </a:endParaRPr>
          </a:p>
        </p:txBody>
      </p:sp>
      <p:grpSp>
        <p:nvGrpSpPr>
          <p:cNvPr id="6879" name="Group 2"/>
          <p:cNvGrpSpPr/>
          <p:nvPr/>
        </p:nvGrpSpPr>
        <p:grpSpPr>
          <a:xfrm>
            <a:off x="0" y="115920"/>
            <a:ext cx="9140760" cy="6548400"/>
            <a:chOff x="0" y="115920"/>
            <a:chExt cx="9140760" cy="6548400"/>
          </a:xfrm>
        </p:grpSpPr>
        <p:grpSp>
          <p:nvGrpSpPr>
            <p:cNvPr id="6880" name="Group 3"/>
            <p:cNvGrpSpPr/>
            <p:nvPr/>
          </p:nvGrpSpPr>
          <p:grpSpPr>
            <a:xfrm>
              <a:off x="0" y="115920"/>
              <a:ext cx="9140760" cy="6548400"/>
              <a:chOff x="0" y="115920"/>
              <a:chExt cx="9140760" cy="6548400"/>
            </a:xfrm>
          </p:grpSpPr>
          <p:sp>
            <p:nvSpPr>
              <p:cNvPr id="688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8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6"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7"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ffffff"/>
              </a:solidFill>
              <a:latin typeface="Times New Roman"/>
            </a:endParaRPr>
          </a:p>
        </p:txBody>
      </p:sp>
      <p:grpSp>
        <p:nvGrpSpPr>
          <p:cNvPr id="6888" name="Group 2"/>
          <p:cNvGrpSpPr/>
          <p:nvPr/>
        </p:nvGrpSpPr>
        <p:grpSpPr>
          <a:xfrm>
            <a:off x="0" y="115920"/>
            <a:ext cx="9140760" cy="6548400"/>
            <a:chOff x="0" y="115920"/>
            <a:chExt cx="9140760" cy="6548400"/>
          </a:xfrm>
        </p:grpSpPr>
        <p:grpSp>
          <p:nvGrpSpPr>
            <p:cNvPr id="6889" name="Group 3"/>
            <p:cNvGrpSpPr/>
            <p:nvPr/>
          </p:nvGrpSpPr>
          <p:grpSpPr>
            <a:xfrm>
              <a:off x="0" y="115920"/>
              <a:ext cx="9140760" cy="6548400"/>
              <a:chOff x="0" y="115920"/>
              <a:chExt cx="9140760" cy="6548400"/>
            </a:xfrm>
          </p:grpSpPr>
          <p:sp>
            <p:nvSpPr>
              <p:cNvPr id="689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5"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ffffff"/>
              </a:solidFill>
              <a:latin typeface="Times New Roman"/>
            </a:endParaRPr>
          </a:p>
        </p:txBody>
      </p:sp>
      <p:grpSp>
        <p:nvGrpSpPr>
          <p:cNvPr id="6897" name="Group 2"/>
          <p:cNvGrpSpPr/>
          <p:nvPr/>
        </p:nvGrpSpPr>
        <p:grpSpPr>
          <a:xfrm>
            <a:off x="0" y="115920"/>
            <a:ext cx="9140760" cy="6548400"/>
            <a:chOff x="0" y="115920"/>
            <a:chExt cx="9140760" cy="6548400"/>
          </a:xfrm>
        </p:grpSpPr>
        <p:grpSp>
          <p:nvGrpSpPr>
            <p:cNvPr id="6898" name="Group 3"/>
            <p:cNvGrpSpPr/>
            <p:nvPr/>
          </p:nvGrpSpPr>
          <p:grpSpPr>
            <a:xfrm>
              <a:off x="0" y="115920"/>
              <a:ext cx="9140760" cy="6548400"/>
              <a:chOff x="0" y="115920"/>
              <a:chExt cx="9140760" cy="6548400"/>
            </a:xfrm>
          </p:grpSpPr>
          <p:sp>
            <p:nvSpPr>
              <p:cNvPr id="689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4"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ffffff"/>
              </a:solidFill>
              <a:latin typeface="Times New Roman"/>
            </a:endParaRPr>
          </a:p>
        </p:txBody>
      </p:sp>
      <p:grpSp>
        <p:nvGrpSpPr>
          <p:cNvPr id="6906" name="Group 2"/>
          <p:cNvGrpSpPr/>
          <p:nvPr/>
        </p:nvGrpSpPr>
        <p:grpSpPr>
          <a:xfrm>
            <a:off x="0" y="115920"/>
            <a:ext cx="9140760" cy="6548400"/>
            <a:chOff x="0" y="115920"/>
            <a:chExt cx="9140760" cy="6548400"/>
          </a:xfrm>
        </p:grpSpPr>
        <p:grpSp>
          <p:nvGrpSpPr>
            <p:cNvPr id="6907" name="Group 3"/>
            <p:cNvGrpSpPr/>
            <p:nvPr/>
          </p:nvGrpSpPr>
          <p:grpSpPr>
            <a:xfrm>
              <a:off x="0" y="115920"/>
              <a:ext cx="9140760" cy="6548400"/>
              <a:chOff x="0" y="115920"/>
              <a:chExt cx="9140760" cy="6548400"/>
            </a:xfrm>
          </p:grpSpPr>
          <p:sp>
            <p:nvSpPr>
              <p:cNvPr id="690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3"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ffffff"/>
              </a:solidFill>
              <a:latin typeface="Times New Roman"/>
            </a:endParaRPr>
          </a:p>
        </p:txBody>
      </p:sp>
      <p:grpSp>
        <p:nvGrpSpPr>
          <p:cNvPr id="6915" name="Group 2"/>
          <p:cNvGrpSpPr/>
          <p:nvPr/>
        </p:nvGrpSpPr>
        <p:grpSpPr>
          <a:xfrm>
            <a:off x="0" y="115920"/>
            <a:ext cx="9140760" cy="6548400"/>
            <a:chOff x="0" y="115920"/>
            <a:chExt cx="9140760" cy="6548400"/>
          </a:xfrm>
        </p:grpSpPr>
        <p:grpSp>
          <p:nvGrpSpPr>
            <p:cNvPr id="6916" name="Group 3"/>
            <p:cNvGrpSpPr/>
            <p:nvPr/>
          </p:nvGrpSpPr>
          <p:grpSpPr>
            <a:xfrm>
              <a:off x="0" y="115920"/>
              <a:ext cx="9140760" cy="6548400"/>
              <a:chOff x="0" y="115920"/>
              <a:chExt cx="9140760" cy="6548400"/>
            </a:xfrm>
          </p:grpSpPr>
          <p:sp>
            <p:nvSpPr>
              <p:cNvPr id="691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1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2"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ffffff"/>
              </a:solidFill>
              <a:latin typeface="Times New Roman"/>
            </a:endParaRPr>
          </a:p>
        </p:txBody>
      </p:sp>
      <p:grpSp>
        <p:nvGrpSpPr>
          <p:cNvPr id="6924" name="Group 2"/>
          <p:cNvGrpSpPr/>
          <p:nvPr/>
        </p:nvGrpSpPr>
        <p:grpSpPr>
          <a:xfrm>
            <a:off x="0" y="115920"/>
            <a:ext cx="9140760" cy="6548400"/>
            <a:chOff x="0" y="115920"/>
            <a:chExt cx="9140760" cy="6548400"/>
          </a:xfrm>
        </p:grpSpPr>
        <p:grpSp>
          <p:nvGrpSpPr>
            <p:cNvPr id="6925" name="Group 3"/>
            <p:cNvGrpSpPr/>
            <p:nvPr/>
          </p:nvGrpSpPr>
          <p:grpSpPr>
            <a:xfrm>
              <a:off x="0" y="115920"/>
              <a:ext cx="9140760" cy="6548400"/>
              <a:chOff x="0" y="115920"/>
              <a:chExt cx="9140760" cy="6548400"/>
            </a:xfrm>
          </p:grpSpPr>
          <p:sp>
            <p:nvSpPr>
              <p:cNvPr id="692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2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1"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ffffff"/>
              </a:solidFill>
              <a:latin typeface="Times New Roman"/>
            </a:endParaRPr>
          </a:p>
        </p:txBody>
      </p:sp>
      <p:grpSp>
        <p:nvGrpSpPr>
          <p:cNvPr id="6933" name="Group 2"/>
          <p:cNvGrpSpPr/>
          <p:nvPr/>
        </p:nvGrpSpPr>
        <p:grpSpPr>
          <a:xfrm>
            <a:off x="0" y="115920"/>
            <a:ext cx="9140760" cy="6548400"/>
            <a:chOff x="0" y="115920"/>
            <a:chExt cx="9140760" cy="6548400"/>
          </a:xfrm>
        </p:grpSpPr>
        <p:grpSp>
          <p:nvGrpSpPr>
            <p:cNvPr id="6934" name="Group 3"/>
            <p:cNvGrpSpPr/>
            <p:nvPr/>
          </p:nvGrpSpPr>
          <p:grpSpPr>
            <a:xfrm>
              <a:off x="0" y="115920"/>
              <a:ext cx="9140760" cy="6548400"/>
              <a:chOff x="0" y="115920"/>
              <a:chExt cx="9140760" cy="6548400"/>
            </a:xfrm>
          </p:grpSpPr>
          <p:sp>
            <p:nvSpPr>
              <p:cNvPr id="693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3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0"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ffffff"/>
              </a:solidFill>
              <a:latin typeface="Times New Roman"/>
            </a:endParaRPr>
          </a:p>
        </p:txBody>
      </p:sp>
      <p:grpSp>
        <p:nvGrpSpPr>
          <p:cNvPr id="6942" name="Group 2"/>
          <p:cNvGrpSpPr/>
          <p:nvPr/>
        </p:nvGrpSpPr>
        <p:grpSpPr>
          <a:xfrm>
            <a:off x="0" y="115920"/>
            <a:ext cx="9140760" cy="6548400"/>
            <a:chOff x="0" y="115920"/>
            <a:chExt cx="9140760" cy="6548400"/>
          </a:xfrm>
        </p:grpSpPr>
        <p:grpSp>
          <p:nvGrpSpPr>
            <p:cNvPr id="6943" name="Group 3"/>
            <p:cNvGrpSpPr/>
            <p:nvPr/>
          </p:nvGrpSpPr>
          <p:grpSpPr>
            <a:xfrm>
              <a:off x="0" y="115920"/>
              <a:ext cx="9140760" cy="6548400"/>
              <a:chOff x="0" y="115920"/>
              <a:chExt cx="9140760" cy="6548400"/>
            </a:xfrm>
          </p:grpSpPr>
          <p:sp>
            <p:nvSpPr>
              <p:cNvPr id="694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4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9"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0" name="Text Box 1"/>
          <p:cNvSpPr/>
          <p:nvPr/>
        </p:nvSpPr>
        <p:spPr>
          <a:xfrm>
            <a:off x="468360" y="1392120"/>
            <a:ext cx="849636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6951" name="Group 2"/>
          <p:cNvGrpSpPr/>
          <p:nvPr/>
        </p:nvGrpSpPr>
        <p:grpSpPr>
          <a:xfrm>
            <a:off x="0" y="115920"/>
            <a:ext cx="9140760" cy="6548400"/>
            <a:chOff x="0" y="115920"/>
            <a:chExt cx="9140760" cy="6548400"/>
          </a:xfrm>
        </p:grpSpPr>
        <p:grpSp>
          <p:nvGrpSpPr>
            <p:cNvPr id="6952" name="Group 3"/>
            <p:cNvGrpSpPr/>
            <p:nvPr/>
          </p:nvGrpSpPr>
          <p:grpSpPr>
            <a:xfrm>
              <a:off x="0" y="115920"/>
              <a:ext cx="9140760" cy="6548400"/>
              <a:chOff x="0" y="115920"/>
              <a:chExt cx="9140760" cy="6548400"/>
            </a:xfrm>
          </p:grpSpPr>
          <p:sp>
            <p:nvSpPr>
              <p:cNvPr id="695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5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8"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ffffff"/>
              </a:solidFill>
              <a:latin typeface="Times New Roman"/>
            </a:endParaRPr>
          </a:p>
        </p:txBody>
      </p:sp>
      <p:grpSp>
        <p:nvGrpSpPr>
          <p:cNvPr id="6960" name="Group 2"/>
          <p:cNvGrpSpPr/>
          <p:nvPr/>
        </p:nvGrpSpPr>
        <p:grpSpPr>
          <a:xfrm>
            <a:off x="0" y="115920"/>
            <a:ext cx="9140760" cy="6548400"/>
            <a:chOff x="0" y="115920"/>
            <a:chExt cx="9140760" cy="6548400"/>
          </a:xfrm>
        </p:grpSpPr>
        <p:grpSp>
          <p:nvGrpSpPr>
            <p:cNvPr id="6961" name="Group 3"/>
            <p:cNvGrpSpPr/>
            <p:nvPr/>
          </p:nvGrpSpPr>
          <p:grpSpPr>
            <a:xfrm>
              <a:off x="0" y="115920"/>
              <a:ext cx="9140760" cy="6548400"/>
              <a:chOff x="0" y="115920"/>
              <a:chExt cx="9140760" cy="6548400"/>
            </a:xfrm>
          </p:grpSpPr>
          <p:sp>
            <p:nvSpPr>
              <p:cNvPr id="69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7"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ffffff"/>
              </a:solidFill>
              <a:latin typeface="Times New Roman"/>
            </a:endParaRPr>
          </a:p>
        </p:txBody>
      </p:sp>
      <p:grpSp>
        <p:nvGrpSpPr>
          <p:cNvPr id="6969" name="Group 2"/>
          <p:cNvGrpSpPr/>
          <p:nvPr/>
        </p:nvGrpSpPr>
        <p:grpSpPr>
          <a:xfrm>
            <a:off x="0" y="115920"/>
            <a:ext cx="9140760" cy="6548400"/>
            <a:chOff x="0" y="115920"/>
            <a:chExt cx="9140760" cy="6548400"/>
          </a:xfrm>
        </p:grpSpPr>
        <p:grpSp>
          <p:nvGrpSpPr>
            <p:cNvPr id="6970" name="Group 3"/>
            <p:cNvGrpSpPr/>
            <p:nvPr/>
          </p:nvGrpSpPr>
          <p:grpSpPr>
            <a:xfrm>
              <a:off x="0" y="115920"/>
              <a:ext cx="9140760" cy="6548400"/>
              <a:chOff x="0" y="115920"/>
              <a:chExt cx="9140760" cy="6548400"/>
            </a:xfrm>
          </p:grpSpPr>
          <p:sp>
            <p:nvSpPr>
              <p:cNvPr id="69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6"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ffffff"/>
              </a:solidFill>
              <a:latin typeface="Times New Roman"/>
            </a:endParaRPr>
          </a:p>
        </p:txBody>
      </p:sp>
      <p:grpSp>
        <p:nvGrpSpPr>
          <p:cNvPr id="6978" name="Group 2"/>
          <p:cNvGrpSpPr/>
          <p:nvPr/>
        </p:nvGrpSpPr>
        <p:grpSpPr>
          <a:xfrm>
            <a:off x="0" y="115920"/>
            <a:ext cx="9140760" cy="6548400"/>
            <a:chOff x="0" y="115920"/>
            <a:chExt cx="9140760" cy="6548400"/>
          </a:xfrm>
        </p:grpSpPr>
        <p:grpSp>
          <p:nvGrpSpPr>
            <p:cNvPr id="6979" name="Group 3"/>
            <p:cNvGrpSpPr/>
            <p:nvPr/>
          </p:nvGrpSpPr>
          <p:grpSpPr>
            <a:xfrm>
              <a:off x="0" y="115920"/>
              <a:ext cx="9140760" cy="6548400"/>
              <a:chOff x="0" y="115920"/>
              <a:chExt cx="9140760" cy="6548400"/>
            </a:xfrm>
          </p:grpSpPr>
          <p:sp>
            <p:nvSpPr>
              <p:cNvPr id="69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5"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ffffff"/>
              </a:solidFill>
              <a:latin typeface="Times New Roman"/>
            </a:endParaRPr>
          </a:p>
        </p:txBody>
      </p:sp>
      <p:grpSp>
        <p:nvGrpSpPr>
          <p:cNvPr id="6987" name="Group 2"/>
          <p:cNvGrpSpPr/>
          <p:nvPr/>
        </p:nvGrpSpPr>
        <p:grpSpPr>
          <a:xfrm>
            <a:off x="0" y="115920"/>
            <a:ext cx="9140760" cy="6548400"/>
            <a:chOff x="0" y="115920"/>
            <a:chExt cx="9140760" cy="6548400"/>
          </a:xfrm>
        </p:grpSpPr>
        <p:grpSp>
          <p:nvGrpSpPr>
            <p:cNvPr id="6988" name="Group 3"/>
            <p:cNvGrpSpPr/>
            <p:nvPr/>
          </p:nvGrpSpPr>
          <p:grpSpPr>
            <a:xfrm>
              <a:off x="0" y="115920"/>
              <a:ext cx="9140760" cy="6548400"/>
              <a:chOff x="0" y="115920"/>
              <a:chExt cx="9140760" cy="6548400"/>
            </a:xfrm>
          </p:grpSpPr>
          <p:sp>
            <p:nvSpPr>
              <p:cNvPr id="69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3" name="Rectangle 8"/>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4"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ffffff"/>
              </a:solidFill>
              <a:latin typeface="Times New Roman"/>
            </a:endParaRPr>
          </a:p>
        </p:txBody>
      </p:sp>
      <p:grpSp>
        <p:nvGrpSpPr>
          <p:cNvPr id="6996" name="Group 2"/>
          <p:cNvGrpSpPr/>
          <p:nvPr/>
        </p:nvGrpSpPr>
        <p:grpSpPr>
          <a:xfrm>
            <a:off x="0" y="115920"/>
            <a:ext cx="9140760" cy="6548400"/>
            <a:chOff x="0" y="115920"/>
            <a:chExt cx="9140760" cy="6548400"/>
          </a:xfrm>
        </p:grpSpPr>
        <p:grpSp>
          <p:nvGrpSpPr>
            <p:cNvPr id="6997" name="Group 3"/>
            <p:cNvGrpSpPr/>
            <p:nvPr/>
          </p:nvGrpSpPr>
          <p:grpSpPr>
            <a:xfrm>
              <a:off x="0" y="115920"/>
              <a:ext cx="9140760" cy="6548400"/>
              <a:chOff x="0" y="115920"/>
              <a:chExt cx="9140760" cy="6548400"/>
            </a:xfrm>
          </p:grpSpPr>
          <p:sp>
            <p:nvSpPr>
              <p:cNvPr id="69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3"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4" name="Text Box 1"/>
          <p:cNvSpPr/>
          <p:nvPr/>
        </p:nvSpPr>
        <p:spPr>
          <a:xfrm>
            <a:off x="395280" y="981000"/>
            <a:ext cx="8497800" cy="480384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ffffff"/>
              </a:solidFill>
              <a:latin typeface="Times New Roman"/>
            </a:endParaRPr>
          </a:p>
        </p:txBody>
      </p:sp>
      <p:grpSp>
        <p:nvGrpSpPr>
          <p:cNvPr id="7005" name="Group 2"/>
          <p:cNvGrpSpPr/>
          <p:nvPr/>
        </p:nvGrpSpPr>
        <p:grpSpPr>
          <a:xfrm>
            <a:off x="0" y="115920"/>
            <a:ext cx="9140760" cy="6548400"/>
            <a:chOff x="0" y="115920"/>
            <a:chExt cx="9140760" cy="6548400"/>
          </a:xfrm>
        </p:grpSpPr>
        <p:grpSp>
          <p:nvGrpSpPr>
            <p:cNvPr id="7006" name="Group 3"/>
            <p:cNvGrpSpPr/>
            <p:nvPr/>
          </p:nvGrpSpPr>
          <p:grpSpPr>
            <a:xfrm>
              <a:off x="0" y="115920"/>
              <a:ext cx="9140760" cy="6548400"/>
              <a:chOff x="0" y="115920"/>
              <a:chExt cx="9140760" cy="6548400"/>
            </a:xfrm>
          </p:grpSpPr>
          <p:sp>
            <p:nvSpPr>
              <p:cNvPr id="70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2"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3"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014" name="Picture 2" descr=""/>
          <p:cNvPicPr/>
          <p:nvPr/>
        </p:nvPicPr>
        <p:blipFill>
          <a:blip r:embed="rId1"/>
          <a:stretch/>
        </p:blipFill>
        <p:spPr>
          <a:xfrm>
            <a:off x="0" y="0"/>
            <a:ext cx="9144000" cy="1368360"/>
          </a:xfrm>
          <a:prstGeom prst="rect">
            <a:avLst/>
          </a:prstGeom>
          <a:ln w="0">
            <a:noFill/>
          </a:ln>
        </p:spPr>
      </p:pic>
      <p:pic>
        <p:nvPicPr>
          <p:cNvPr id="7015" name="Picture 3" descr=""/>
          <p:cNvPicPr/>
          <p:nvPr/>
        </p:nvPicPr>
        <p:blipFill>
          <a:blip r:embed="rId2"/>
          <a:stretch/>
        </p:blipFill>
        <p:spPr>
          <a:xfrm>
            <a:off x="1258920" y="2060640"/>
            <a:ext cx="1297080" cy="1528560"/>
          </a:xfrm>
          <a:prstGeom prst="rect">
            <a:avLst/>
          </a:prstGeom>
          <a:ln w="0">
            <a:noFill/>
          </a:ln>
        </p:spPr>
      </p:pic>
      <p:pic>
        <p:nvPicPr>
          <p:cNvPr id="7016" name="Picture 4" descr=""/>
          <p:cNvPicPr/>
          <p:nvPr/>
        </p:nvPicPr>
        <p:blipFill>
          <a:blip r:embed="rId3"/>
          <a:stretch/>
        </p:blipFill>
        <p:spPr>
          <a:xfrm>
            <a:off x="6948360" y="1989000"/>
            <a:ext cx="1444680" cy="1573200"/>
          </a:xfrm>
          <a:prstGeom prst="rect">
            <a:avLst/>
          </a:prstGeom>
          <a:ln w="0">
            <a:noFill/>
          </a:ln>
        </p:spPr>
      </p:pic>
      <p:sp>
        <p:nvSpPr>
          <p:cNvPr id="7017"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018"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3:47Z</dcterms:modified>
  <cp:revision>1</cp:revision>
  <dc:subject/>
  <dc:title/>
</cp:coreProperties>
</file>